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2063" cy="758825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784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B503-E7A9-4F1A-A1CB-9526E57076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DFD9-ADAA-4540-903E-03C0BB71C1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77000" cy="37209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66DA82BA-4A24-4ACB-9399-A0625AC0E1E9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8FE-68D1-4D6A-98E7-F37B2D4696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77000" cy="37209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7B292CC-FB12-434A-9656-BB2D668AC12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2960" y="746280"/>
            <a:ext cx="4973400" cy="37209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ASE I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diseño para la actualización de la PNCTI, partió de la definición de prioridades de los ejes estratégicos de Seguridad Humana, Institucionalidad, Desarrollo Humano y Competitividad del País, agregando  un quinto y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uevo eje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de Recursos Naturales y Gestión Ambi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hizo un análisis exhaustivo de las Políticas de Estado, Políticas Nacionales, Políticas Sectoriales-PESEM y Planes Regionales de Desarrollo Regional Concertado-PDR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ASE II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pués de un dialogo con el CEPLAN y otras entidades, se ratifico la relevancia de dicha consolidación, ratificando l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levanci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de considerar el nuevo ej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“Garantizar el uso sostenible de los Recursos Naturales y del medio ambiente”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(como un eje a incluir en la PNCTI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ASE II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anterior consolidación permitió confeccionar un menú de alternativas de posible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al interior de cada objetivo estratégic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a versión preliminar de los Ejes, Objetivos Estratégicos y Objetivos Específicos de la PNCTI, fue remitida a los representantes ante el CCM, para solicitar su opinión sobre los mismos. - Se recibieron la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spuestas de 32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ntes de dichas institu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Luego de recibidos,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los aportes fueron discutidos, contrastados y sistematizado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el Equipo de Elaboración de la PNC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ASE IV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sando por la aprobación de la Dirección Ejecutiva y su propuesta ante el Consejo Directivo (según lo indicado en el Reglamento de Organización y Funciones-Artículo 13, inciso 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C0FA701-EC7B-42EA-B695-71C249409ED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Matrices de Sistematiza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este paso se utilizaron matrices de sistematización, que permitieron visualizar fácilmente la importancia de los ejes y objetivos estratégicos planteados, tal como se muestra en el siguient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jempl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rresponde a la matriz d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olíticas de Estado.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las otras son de políticas nacionales, PESEM y PDR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62A517E3-9CB2-4F56-8E80-A8C8F5B28185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49F2-3AD3-40BD-A0C3-04265DB539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DDDABBC-F128-467A-94A2-5506D004F0FF}" type="slidenum">
              <a:rPr b="0" lang="es-ES" sz="13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2960" y="746280"/>
            <a:ext cx="4973400" cy="37209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CBE4-3D98-41A8-989C-7555B03CAB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77000" cy="37209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8"/>
          <p:cNvSpPr/>
          <p:nvPr/>
        </p:nvSpPr>
        <p:spPr>
          <a:xfrm>
            <a:off x="5897520" y="6804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n 3" descr="http://www.apci.gob.pe/imagenes/logo.jpg"/>
          <p:cNvPicPr/>
          <p:nvPr/>
        </p:nvPicPr>
        <p:blipFill>
          <a:blip r:embed="rId3"/>
          <a:stretch/>
        </p:blipFill>
        <p:spPr>
          <a:xfrm>
            <a:off x="2577960" y="6691320"/>
            <a:ext cx="7572600" cy="898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google.com/imgres?imgurl=http://1.bp.blogspot.com/_ziA7BNHV1S8/TA2LD1z24iI/AAAAAAAABwI/gJQo-h4O1e4/s1600/bandera-peru%255B1%255D.jpg&amp;imgrefurl=http://luisenrique17.blogspot.com/2010/06/poesias-la-bandera-del-peru.html&amp;h=298&amp;w=413&amp;sz=25&amp;tbnid=V0rn9Zk3MoEaCM:&amp;tbnh=90&amp;tbnw=125&amp;prev=/images%3Fq%3Dbandera%2Bperu&amp;zoom=1&amp;q=bandera+peru&amp;hl=es&amp;usg=__adl0gLyBOdAtSfmpz7k9AKBjZUk=&amp;sa=X&amp;ei=nSIlTcGeJoP_8AbesYXwAQ&amp;ved=0CB4Q9QEwAQ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341360" y="3567240"/>
            <a:ext cx="747396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3366"/>
                </a:solidFill>
                <a:latin typeface="Impact"/>
              </a:rPr>
              <a:t>Principales Prioridades de Desarrollo del Pa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3366"/>
                </a:solidFill>
                <a:latin typeface="Impact"/>
              </a:rPr>
              <a:t>para la Cooperación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692360" y="4954680"/>
            <a:ext cx="7915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8775720" y="6935760"/>
            <a:ext cx="9936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n 3" descr="http://www.apci.gob.pe/imagenes/logo.jpg"/>
          <p:cNvPicPr/>
          <p:nvPr/>
        </p:nvPicPr>
        <p:blipFill>
          <a:blip r:embed="rId2"/>
          <a:srcRect l="0" t="0" r="19443" b="15358"/>
          <a:stretch/>
        </p:blipFill>
        <p:spPr>
          <a:xfrm>
            <a:off x="2255760" y="61920"/>
            <a:ext cx="6248520" cy="824040"/>
          </a:xfrm>
          <a:prstGeom prst="rect">
            <a:avLst/>
          </a:prstGeom>
          <a:ln w="0">
            <a:noFill/>
          </a:ln>
        </p:spPr>
      </p:pic>
      <p:pic>
        <p:nvPicPr>
          <p:cNvPr id="89" name="16 Imagen" descr="NNUU.jpg"/>
          <p:cNvPicPr/>
          <p:nvPr/>
        </p:nvPicPr>
        <p:blipFill>
          <a:blip r:embed="rId3"/>
          <a:stretch/>
        </p:blipFill>
        <p:spPr>
          <a:xfrm>
            <a:off x="3170160" y="1585800"/>
            <a:ext cx="1311480" cy="1308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bandera-peru%25255B1%25255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27560" y="1890720"/>
            <a:ext cx="1238400" cy="895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7058520" y="59292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20 de Enero d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98360" y="2728800"/>
          <a:ext cx="9753840" cy="4135320"/>
        </p:xfrm>
        <a:graphic>
          <a:graphicData uri="http://schemas.openxmlformats.org/drawingml/2006/table">
            <a:tbl>
              <a:tblPr/>
              <a:tblGrid>
                <a:gridCol w="2743200"/>
                <a:gridCol w="3276720"/>
                <a:gridCol w="373392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3: DESARROLLO HUM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2 (Equidad y Justicia Social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2 (Oportunidades y Acceso a los Servici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ásic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3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7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:                                             ASEGURAR EL ACCESO UNIVERSAL Y EQUITATIVO A UNA EDUCACIÓN DE CALIDAD Y PROMOVER LA CULTURA Y EL DEPORT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2/ P12 (Acceso universal a una educación pública gratuita y de calidad y promoción y defensa de la cultura y del deport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2/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 Educación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L.3: Asegurar la buena calidad educativa y la aplicación de buenas prácticas pedagógicas con instituciones acogedoras e integradoras. L.5: Impulsar la educación científica y el uso de nuevas tecnologías educativas.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. 6: Promover una gestión educativa eficiente y descentralizada, altamente profesional y desarrollada con criterios de ética pública,..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L.9: Impulsar la mejora de la calidad de la educación superior y su aporte al desarrollo socioeconómico y cultural 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8: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MEJORAR EL ACCESO  UNIVERSAL A SERVICIOS  DE SALUD Y LA NUTRI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2/ P8(Descentralización política, económica y administrativa para propiciar el desarrollo integral, armónico y sostenido del Per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2/ L.Salud y Seguridad Social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14" name="Text Box 27"/>
          <p:cNvSpPr/>
          <p:nvPr/>
        </p:nvSpPr>
        <p:spPr>
          <a:xfrm>
            <a:off x="1874880" y="290520"/>
            <a:ext cx="7848720" cy="70452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Matriz de correspondencia entre los Objetivos de la PNCTI - Acuerdo Nacional -  Plan Bicentenar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7"/>
          <p:cNvSpPr/>
          <p:nvPr/>
        </p:nvSpPr>
        <p:spPr>
          <a:xfrm>
            <a:off x="1170000" y="1433520"/>
            <a:ext cx="2133720" cy="684360"/>
          </a:xfrm>
          <a:prstGeom prst="parallelogram">
            <a:avLst>
              <a:gd name="adj" fmla="val 59556"/>
            </a:avLst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olítica Nacional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de Cooperación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1"/>
          <p:cNvSpPr/>
          <p:nvPr/>
        </p:nvSpPr>
        <p:spPr>
          <a:xfrm>
            <a:off x="7265880" y="1433520"/>
            <a:ext cx="2300400" cy="684360"/>
          </a:xfrm>
          <a:prstGeom prst="parallelogram">
            <a:avLst>
              <a:gd name="adj" fmla="val 56428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lan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Bicente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2"/>
          <p:cNvSpPr/>
          <p:nvPr/>
        </p:nvSpPr>
        <p:spPr>
          <a:xfrm>
            <a:off x="3913200" y="1433520"/>
            <a:ext cx="2522520" cy="684360"/>
          </a:xfrm>
          <a:prstGeom prst="parallelogram">
            <a:avLst>
              <a:gd name="adj" fmla="val 57985"/>
            </a:avLst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olíticas de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39 Imagen" descr="APCI-LOGO.JPG"/>
          <p:cNvPicPr/>
          <p:nvPr/>
        </p:nvPicPr>
        <p:blipFill>
          <a:blip r:embed="rId2"/>
          <a:srcRect l="6360" t="12868" r="5261" b="19885"/>
          <a:stretch/>
        </p:blipFill>
        <p:spPr>
          <a:xfrm>
            <a:off x="503280" y="1585800"/>
            <a:ext cx="1279440" cy="451080"/>
          </a:xfrm>
          <a:prstGeom prst="rect">
            <a:avLst/>
          </a:prstGeom>
          <a:ln w="0">
            <a:noFill/>
          </a:ln>
        </p:spPr>
      </p:pic>
      <p:pic>
        <p:nvPicPr>
          <p:cNvPr id="319" name="40 Imagen" descr="acuerdo Nacional.gif"/>
          <p:cNvPicPr/>
          <p:nvPr/>
        </p:nvPicPr>
        <p:blipFill>
          <a:blip r:embed="rId3"/>
          <a:srcRect l="0" t="19539" r="0" b="27972"/>
          <a:stretch/>
        </p:blipFill>
        <p:spPr>
          <a:xfrm>
            <a:off x="3379680" y="1623960"/>
            <a:ext cx="1238400" cy="407880"/>
          </a:xfrm>
          <a:prstGeom prst="rect">
            <a:avLst/>
          </a:prstGeom>
          <a:ln w="0">
            <a:noFill/>
          </a:ln>
        </p:spPr>
      </p:pic>
      <p:pic>
        <p:nvPicPr>
          <p:cNvPr id="320" name="41 Imagen" descr="logoceplan.JPG"/>
          <p:cNvPicPr/>
          <p:nvPr/>
        </p:nvPicPr>
        <p:blipFill>
          <a:blip r:embed="rId4"/>
          <a:srcRect l="0" t="0" r="2707" b="0"/>
          <a:stretch/>
        </p:blipFill>
        <p:spPr>
          <a:xfrm>
            <a:off x="6656400" y="1585800"/>
            <a:ext cx="9144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98360" y="2154240"/>
          <a:ext cx="9601200" cy="5222520"/>
        </p:xfrm>
        <a:graphic>
          <a:graphicData uri="http://schemas.openxmlformats.org/drawingml/2006/table">
            <a:tbl>
              <a:tblPr/>
              <a:tblGrid>
                <a:gridCol w="2700000"/>
                <a:gridCol w="3225600"/>
                <a:gridCol w="36756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4: COMPETITIVIDAD DEL 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2 (Equidad y Justicia Social);</a:t>
                      </a:r>
                      <a:br>
                        <a:rPr sz="1100"/>
                      </a:b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3(Competitividad del país);</a:t>
                      </a:r>
                      <a:br>
                        <a:rPr sz="1100"/>
                      </a:b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4 (Estado Eficiente, Transparente y Descentraliza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3 (Estado Democrático y Descentralizado) ;                                                             Eje 4 (Economía Competitiva y Productividad);                                                                      Eje 5 (Desarrollo Regional e Infraestructura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6 (Recursos Naturales y Ambient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9: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   PROMOVER LA COMPETITIVIDAD NACIONAL Y LAS OPORTUNIDADES DE EMPLEO JUSTO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14 (Acceso al empleo pleno, digno y productivo), P17 (Afirmación de la economía social de mercado), P18 (Búsqueda de la competitividad, productividad y formalización de la actividad económica)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21 (Desarrollo en infraestructura y vivienda)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22 (Política de comercio exterior para la ampliación de mercados con reciprocidad)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4/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Estructura Productiva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; 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Empleo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5/L.8: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Crear incentivos económicos y financieros para la inversión productiva orientada al mercado interno y externo, así como para la descentralización de la infraestructura y la produ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0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:                                                    FORTALECER LA INTEGRACIÓN DEL PERÚ AL MERCADO MUNDI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18(Búsqueda de la competitividad, productividad y formalización de la actividad económica)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22(Política de comercio exterior para la ampliación de mercados con reciprocida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3/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 Relaciones Exteriores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4/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 Competitividad e Integración a los mercados globales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1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: DESARROLLAR LA CIENCIA, INNOVACIÓN Y TECNOLOGÍA EN EL PAÍ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20(Desarrollo de la Ciencia y la Tecnologí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4/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 Innovación 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322" name="34 Grupo"/>
          <p:cNvGrpSpPr/>
          <p:nvPr/>
        </p:nvGrpSpPr>
        <p:grpSpPr>
          <a:xfrm>
            <a:off x="503280" y="1204920"/>
            <a:ext cx="9063000" cy="797400"/>
            <a:chOff x="503280" y="1204920"/>
            <a:chExt cx="9063000" cy="797400"/>
          </a:xfrm>
        </p:grpSpPr>
        <p:sp>
          <p:nvSpPr>
            <p:cNvPr id="323" name="Rectangle 7"/>
            <p:cNvSpPr/>
            <p:nvPr/>
          </p:nvSpPr>
          <p:spPr>
            <a:xfrm>
              <a:off x="919080" y="2001960"/>
              <a:ext cx="1873080" cy="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373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47"/>
            <p:cNvSpPr/>
            <p:nvPr/>
          </p:nvSpPr>
          <p:spPr>
            <a:xfrm>
              <a:off x="1170000" y="1204920"/>
              <a:ext cx="2133360" cy="684720"/>
            </a:xfrm>
            <a:prstGeom prst="parallelogram">
              <a:avLst>
                <a:gd name="adj" fmla="val 59515"/>
              </a:avLst>
            </a:prstGeom>
            <a:solidFill>
              <a:srgbClr val="ffad5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Política Nacional </a:t>
              </a:r>
              <a:br>
                <a:rPr sz="1000"/>
              </a:b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de Cooperación </a:t>
              </a:r>
              <a:br>
                <a:rPr sz="1000"/>
              </a:b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Intern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51"/>
            <p:cNvSpPr/>
            <p:nvPr/>
          </p:nvSpPr>
          <p:spPr>
            <a:xfrm>
              <a:off x="7266240" y="1204920"/>
              <a:ext cx="2300040" cy="684720"/>
            </a:xfrm>
            <a:prstGeom prst="parallelogram">
              <a:avLst>
                <a:gd name="adj" fmla="val 56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Plan</a:t>
              </a:r>
              <a:br>
                <a:rPr sz="1000"/>
              </a:b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Bicentena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52"/>
            <p:cNvSpPr/>
            <p:nvPr/>
          </p:nvSpPr>
          <p:spPr>
            <a:xfrm>
              <a:off x="3913200" y="1204920"/>
              <a:ext cx="2522520" cy="684720"/>
            </a:xfrm>
            <a:prstGeom prst="parallelogram">
              <a:avLst>
                <a:gd name="adj" fmla="val 57955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Políticas de </a:t>
              </a:r>
              <a:br>
                <a:rPr sz="1000"/>
              </a:b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39 Imagen" descr="APCI-LOGO.JPG"/>
            <p:cNvPicPr/>
            <p:nvPr/>
          </p:nvPicPr>
          <p:blipFill>
            <a:blip r:embed="rId2"/>
            <a:srcRect l="6360" t="12868" r="5261" b="19885"/>
            <a:stretch/>
          </p:blipFill>
          <p:spPr>
            <a:xfrm>
              <a:off x="503280" y="1356840"/>
              <a:ext cx="1279440" cy="4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40 Imagen" descr="acuerdo Nacional.gif"/>
            <p:cNvPicPr/>
            <p:nvPr/>
          </p:nvPicPr>
          <p:blipFill>
            <a:blip r:embed="rId3"/>
            <a:srcRect l="0" t="19539" r="0" b="27972"/>
            <a:stretch/>
          </p:blipFill>
          <p:spPr>
            <a:xfrm>
              <a:off x="3379680" y="1394640"/>
              <a:ext cx="123804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41 Imagen" descr="logoceplan.JPG"/>
            <p:cNvPicPr/>
            <p:nvPr/>
          </p:nvPicPr>
          <p:blipFill>
            <a:blip r:embed="rId4"/>
            <a:srcRect l="0" t="0" r="2707" b="0"/>
            <a:stretch/>
          </p:blipFill>
          <p:spPr>
            <a:xfrm>
              <a:off x="6656400" y="1356840"/>
              <a:ext cx="914400" cy="44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Text Box 27"/>
          <p:cNvSpPr/>
          <p:nvPr/>
        </p:nvSpPr>
        <p:spPr>
          <a:xfrm>
            <a:off x="1874880" y="290520"/>
            <a:ext cx="7848720" cy="70452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Matriz de correspondencia entre los Objetivos de la PNCTI - Acuerdo Nacional -  Plan Bicentenar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274680" y="2119320"/>
          <a:ext cx="9677520" cy="5392800"/>
        </p:xfrm>
        <a:graphic>
          <a:graphicData uri="http://schemas.openxmlformats.org/drawingml/2006/table">
            <a:tbl>
              <a:tblPr/>
              <a:tblGrid>
                <a:gridCol w="2438280"/>
                <a:gridCol w="2514600"/>
                <a:gridCol w="472464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5: RECURSOS NATURALES Y GESTIÓN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3 (Competitividad del país)</a:t>
                      </a:r>
                      <a:br>
                        <a:rPr sz="1100"/>
                      </a:b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4 (Estado Eficiente, Transparente y Descentraliza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6 (Recursos Naturales y Ambient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2: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LOGRAR LA CONSERVACIÓN Y APROVECHAMIENTO SOSTENIBLE DE LOS RECURSOS NATURALES Y LA DIVERSIDAD BIOLÓGICA DEL PAÍS, CON EFICIENCIA, EQUIDAD Y BIENESTAR SOCI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19( Desarrollo sostenible y gestión ambiental),  P23 (Política de desarrollo agrario y rural), P27 (Erradicación de la producción, el tráfico y el consumo ilegal de de droga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5/ L.2: Promover la planificación regional y la descentralización de las actividades económicas mediante el ordenamiento territorial orientado a la ocupación equilibrada y sostenible del territorio...//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6/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 Recursos Naturales   Naturales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L.10: Fomentar la adopción de  estrategias de mitigación y adaptación al cambio climático por los tres niveles de gobierno, basadas en estudios e investigaciones científicas) 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;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Calidad ambiental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8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3: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POYAR  LA CALIDAD AMBIENTAL EN EL MARCO DE  UNA GESTIÓN INTEGRADA DE LOS RIESGOS AMBIENTALES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 19 ( Desarrollo sostenible y gestión ambiental),             P 32 (Gestión del riesgo de desastres con la finalidad de proteger la vida, salud e integridad de la població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6 /  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 Recursos Natura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 Calidad Ambiental 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L1:Proteger el ambiente y sus componentes con enfoque preventivo y recuperar la calidad ambiental, asegurando la conservación y el aprovechamiento sostenible de los recursos naturales y la biodiversidad de una manera responsable y congruente con el respeto de los derechos fundamentales de las personas; L2:Regular la calidad ambiental para asegurar su adecuación a la salud y el desarrollo integral de las personas, así como el equilibrio de los ecosistemas. L.4: Promover la responsabilidad ambiental empresarial en as actividades productivas y la compensación justa de los impactos ambientales y sociales de los megaproyectos. L.6: Promover el uso de instrumentos económicos para mejorar la calidad ambiental y la conservación de los recursos naturales.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32" name="Text Box 27"/>
          <p:cNvSpPr/>
          <p:nvPr/>
        </p:nvSpPr>
        <p:spPr>
          <a:xfrm>
            <a:off x="1874880" y="290520"/>
            <a:ext cx="7848720" cy="70452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Matriz de correspondencia entre los Objetivos de la PNCTI - Acuerdo Nacional -  Plan Bicentenar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7"/>
          <p:cNvSpPr/>
          <p:nvPr/>
        </p:nvSpPr>
        <p:spPr>
          <a:xfrm>
            <a:off x="1189080" y="1128600"/>
            <a:ext cx="2133720" cy="685800"/>
          </a:xfrm>
          <a:prstGeom prst="parallelogram">
            <a:avLst>
              <a:gd name="adj" fmla="val 59431"/>
            </a:avLst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olítica Nacional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de Cooperación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7284960" y="1128600"/>
            <a:ext cx="2300400" cy="685800"/>
          </a:xfrm>
          <a:prstGeom prst="parallelogram">
            <a:avLst>
              <a:gd name="adj" fmla="val 56309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lan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Bicente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2"/>
          <p:cNvSpPr/>
          <p:nvPr/>
        </p:nvSpPr>
        <p:spPr>
          <a:xfrm>
            <a:off x="3932280" y="1128600"/>
            <a:ext cx="2522520" cy="685800"/>
          </a:xfrm>
          <a:prstGeom prst="parallelogram">
            <a:avLst>
              <a:gd name="adj" fmla="val 57864"/>
            </a:avLst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olíticas de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39 Imagen" descr="APCI-LOGO.JPG"/>
          <p:cNvPicPr/>
          <p:nvPr/>
        </p:nvPicPr>
        <p:blipFill>
          <a:blip r:embed="rId2"/>
          <a:srcRect l="6360" t="12868" r="5261" b="19885"/>
          <a:stretch/>
        </p:blipFill>
        <p:spPr>
          <a:xfrm>
            <a:off x="522360" y="1281240"/>
            <a:ext cx="1279440" cy="452160"/>
          </a:xfrm>
          <a:prstGeom prst="rect">
            <a:avLst/>
          </a:prstGeom>
          <a:ln w="0">
            <a:noFill/>
          </a:ln>
        </p:spPr>
      </p:pic>
      <p:pic>
        <p:nvPicPr>
          <p:cNvPr id="337" name="40 Imagen" descr="acuerdo Nacional.gif"/>
          <p:cNvPicPr/>
          <p:nvPr/>
        </p:nvPicPr>
        <p:blipFill>
          <a:blip r:embed="rId3"/>
          <a:srcRect l="0" t="19539" r="0" b="27972"/>
          <a:stretch/>
        </p:blipFill>
        <p:spPr>
          <a:xfrm>
            <a:off x="3398760" y="1319040"/>
            <a:ext cx="1238400" cy="409680"/>
          </a:xfrm>
          <a:prstGeom prst="rect">
            <a:avLst/>
          </a:prstGeom>
          <a:ln w="0">
            <a:noFill/>
          </a:ln>
        </p:spPr>
      </p:pic>
      <p:pic>
        <p:nvPicPr>
          <p:cNvPr id="338" name="41 Imagen" descr="logoceplan.JPG"/>
          <p:cNvPicPr/>
          <p:nvPr/>
        </p:nvPicPr>
        <p:blipFill>
          <a:blip r:embed="rId4"/>
          <a:srcRect l="0" t="0" r="2707" b="0"/>
          <a:stretch/>
        </p:blipFill>
        <p:spPr>
          <a:xfrm>
            <a:off x="6675480" y="1281240"/>
            <a:ext cx="9144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1341360" y="3567240"/>
            <a:ext cx="747396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3366"/>
                </a:solidFill>
                <a:latin typeface="Impact"/>
              </a:rPr>
              <a:t>Principales Prioridades de Desarrollo del Paí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PE" sz="2800" spc="-1" strike="noStrike">
                <a:solidFill>
                  <a:srgbClr val="003366"/>
                </a:solidFill>
                <a:latin typeface="Impact"/>
              </a:rPr>
              <a:t>para la Cooperación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1692360" y="4954680"/>
            <a:ext cx="7915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8775720" y="6935760"/>
            <a:ext cx="9936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Imagen 3" descr="http://www.apci.gob.pe/imagenes/logo.jpg"/>
          <p:cNvPicPr/>
          <p:nvPr/>
        </p:nvPicPr>
        <p:blipFill>
          <a:blip r:embed="rId2"/>
          <a:srcRect l="0" t="0" r="19443" b="15358"/>
          <a:stretch/>
        </p:blipFill>
        <p:spPr>
          <a:xfrm>
            <a:off x="2255760" y="61920"/>
            <a:ext cx="6248520" cy="824040"/>
          </a:xfrm>
          <a:prstGeom prst="rect">
            <a:avLst/>
          </a:prstGeom>
          <a:ln w="0">
            <a:noFill/>
          </a:ln>
        </p:spPr>
      </p:pic>
      <p:pic>
        <p:nvPicPr>
          <p:cNvPr id="343" name="16 Imagen" descr="NNUU.jpg"/>
          <p:cNvPicPr/>
          <p:nvPr/>
        </p:nvPicPr>
        <p:blipFill>
          <a:blip r:embed="rId3"/>
          <a:stretch/>
        </p:blipFill>
        <p:spPr>
          <a:xfrm>
            <a:off x="3170160" y="1585800"/>
            <a:ext cx="1311480" cy="1308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bandera-peru%25255B1%25255D"/>
          <p:cNvPicPr/>
          <p:nvPr/>
        </p:nvPicPr>
        <p:blipFill>
          <a:blip r:embed="rId4"/>
          <a:stretch/>
        </p:blipFill>
        <p:spPr>
          <a:xfrm>
            <a:off x="5227560" y="1890720"/>
            <a:ext cx="1238400" cy="8953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4"/>
          <p:cNvSpPr/>
          <p:nvPr/>
        </p:nvSpPr>
        <p:spPr>
          <a:xfrm>
            <a:off x="7058520" y="59292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20 de Enero d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503280" y="4786200"/>
            <a:ext cx="9072360" cy="838440"/>
          </a:xfrm>
          <a:prstGeom prst="roundRect">
            <a:avLst>
              <a:gd name="adj" fmla="val 4910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2.-  Metodología de la formulación de los Objetivos Nacionales  para la C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579600" y="3110040"/>
            <a:ext cx="8991360" cy="914400"/>
          </a:xfrm>
          <a:prstGeom prst="roundRect">
            <a:avLst>
              <a:gd name="adj" fmla="val 4910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1.- Actualización de la Política Nacional de Cooperación Técnica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130800" y="48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3" descr="http://www.apci.gob.pe/imagenes/logo.jpg"/>
          <p:cNvPicPr/>
          <p:nvPr/>
        </p:nvPicPr>
        <p:blipFill>
          <a:blip r:embed="rId2"/>
          <a:srcRect l="0" t="0" r="25537" b="16775"/>
          <a:stretch/>
        </p:blipFill>
        <p:spPr>
          <a:xfrm>
            <a:off x="1951200" y="76320"/>
            <a:ext cx="5638680" cy="747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1041120" y="211932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TENI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7520" y="1890360"/>
            <a:ext cx="6854760" cy="2373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529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2570"/>
                </a:solidFill>
                <a:uFillTx/>
                <a:latin typeface="Arial"/>
              </a:rPr>
              <a:t>Define rol de la CIN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2570"/>
                </a:solidFill>
                <a:latin typeface="Arial"/>
              </a:rPr>
              <a:t> “ </a:t>
            </a:r>
            <a:r>
              <a:rPr b="0" i="1" lang="es-ES_tradnl" sz="2000" spc="-1" strike="noStrike">
                <a:solidFill>
                  <a:srgbClr val="002570"/>
                </a:solidFill>
                <a:latin typeface="Arial"/>
              </a:rPr>
              <a:t>La Cooperación Internacional No Reembolsable en el Perú es un mecanismo </a:t>
            </a:r>
            <a:r>
              <a:rPr b="1" i="1" lang="es-ES_tradnl" sz="2000" spc="-1" strike="noStrike">
                <a:solidFill>
                  <a:srgbClr val="002570"/>
                </a:solidFill>
                <a:latin typeface="Arial"/>
              </a:rPr>
              <a:t>complementario a los esfuerzos del Estado,</a:t>
            </a:r>
            <a:r>
              <a:rPr b="0" i="1" lang="es-ES_tradnl" sz="2000" spc="-1" strike="noStrike">
                <a:solidFill>
                  <a:srgbClr val="002570"/>
                </a:solidFill>
                <a:latin typeface="Arial"/>
              </a:rPr>
              <a:t> dirigido a mejorar la calidad de vida de la nación peruana a través del </a:t>
            </a:r>
            <a:r>
              <a:rPr b="1" i="1" lang="es-ES_tradnl" sz="2000" spc="-1" strike="noStrike">
                <a:solidFill>
                  <a:srgbClr val="002570"/>
                </a:solidFill>
                <a:latin typeface="Arial"/>
              </a:rPr>
              <a:t>aumento de las capacidades humanas</a:t>
            </a:r>
            <a:r>
              <a:rPr b="0" i="1" lang="es-ES_tradnl" sz="2000" spc="-1" strike="noStrike">
                <a:solidFill>
                  <a:srgbClr val="002570"/>
                </a:solidFill>
                <a:latin typeface="Arial"/>
              </a:rPr>
              <a:t> y el </a:t>
            </a:r>
            <a:r>
              <a:rPr b="1" i="1" lang="es-ES_tradnl" sz="2000" spc="-1" strike="noStrike">
                <a:solidFill>
                  <a:srgbClr val="002570"/>
                </a:solidFill>
                <a:latin typeface="Arial"/>
              </a:rPr>
              <a:t>aseguramiento de acceso equitativo a oportunidades de desarrollo</a:t>
            </a:r>
            <a:r>
              <a:rPr b="0" i="1" lang="es-ES_tradnl" sz="2000" spc="-1" strike="noStrike">
                <a:solidFill>
                  <a:srgbClr val="002570"/>
                </a:solidFill>
                <a:latin typeface="Arial"/>
              </a:rPr>
              <a:t> en el marco de los objetivos nacional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31880" y="4804920"/>
            <a:ext cx="8766000" cy="27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spAutoFit/>
          </a:bodyPr>
          <a:p>
            <a:pPr>
              <a:tabLst>
                <a:tab algn="l" pos="0"/>
                <a:tab algn="l" pos="25416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s-ES_tradnl" sz="1600" spc="-1" strike="noStrike" u="sng">
                <a:solidFill>
                  <a:srgbClr val="002570"/>
                </a:solidFill>
                <a:uFillTx/>
                <a:latin typeface="Arial"/>
                <a:ea typeface="Times New Roman"/>
              </a:rPr>
              <a:t>Busca:</a:t>
            </a:r>
            <a:r>
              <a:rPr b="0" i="1" lang="es-ES_tradnl" sz="1600" spc="-1" strike="noStrike">
                <a:solidFill>
                  <a:srgbClr val="00257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416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416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s-ES_tradnl" sz="1600" spc="-1" strike="noStrike">
                <a:solidFill>
                  <a:srgbClr val="002570"/>
                </a:solidFill>
                <a:latin typeface="Arial"/>
                <a:ea typeface="Times New Roman"/>
              </a:rPr>
              <a:t>Empleo óptimo de los recursos de la CIN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416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416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s-ES_tradnl" sz="1600" spc="-1" strike="noStrike">
                <a:solidFill>
                  <a:srgbClr val="002570"/>
                </a:solidFill>
                <a:latin typeface="Arial"/>
                <a:ea typeface="Times New Roman"/>
              </a:rPr>
              <a:t>Concentrar el apoyo de la cooperación internacional en </a:t>
            </a:r>
            <a:r>
              <a:rPr b="1" i="1" lang="es-ES_tradnl" sz="1600" spc="-1" strike="noStrike" u="sng">
                <a:solidFill>
                  <a:srgbClr val="002570"/>
                </a:solidFill>
                <a:uFillTx/>
                <a:latin typeface="Arial"/>
                <a:ea typeface="Times New Roman"/>
              </a:rPr>
              <a:t>intervenciones más integradas, mejor articuladas</a:t>
            </a:r>
            <a:r>
              <a:rPr b="0" i="1" lang="es-ES_tradnl" sz="1600" spc="-1" strike="noStrike">
                <a:solidFill>
                  <a:srgbClr val="002570"/>
                </a:solidFill>
                <a:latin typeface="Arial"/>
                <a:ea typeface="Times New Roman"/>
              </a:rPr>
              <a:t> y </a:t>
            </a:r>
            <a:r>
              <a:rPr b="1" i="1" lang="es-ES_tradnl" sz="1600" spc="-1" strike="noStrike" u="sng">
                <a:solidFill>
                  <a:srgbClr val="002570"/>
                </a:solidFill>
                <a:uFillTx/>
                <a:latin typeface="Arial"/>
                <a:ea typeface="Times New Roman"/>
              </a:rPr>
              <a:t>capaces de maximizar su impacto</a:t>
            </a:r>
            <a:r>
              <a:rPr b="0" i="1" lang="es-ES_tradnl" sz="1600" spc="-1" strike="noStrike">
                <a:solidFill>
                  <a:srgbClr val="002570"/>
                </a:solidFill>
                <a:latin typeface="Arial"/>
                <a:ea typeface="Times New Roman"/>
              </a:rPr>
              <a:t>, remontando el alto grado de dispersión de la Cooper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416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1600"/>
            </a:br>
            <a:r>
              <a:rPr b="0" i="1" lang="es-ES_tradnl" sz="1600" spc="-1" strike="noStrike">
                <a:solidFill>
                  <a:srgbClr val="002570"/>
                </a:solidFill>
                <a:latin typeface="Arial"/>
                <a:ea typeface="Times New Roman"/>
              </a:rPr>
              <a:t>Emplear un marco adecuado de evaluación, y seguimiento que asegure la </a:t>
            </a:r>
            <a:r>
              <a:rPr b="1" i="1" lang="es-ES_tradnl" sz="1600" spc="-1" strike="noStrike">
                <a:solidFill>
                  <a:srgbClr val="002570"/>
                </a:solidFill>
                <a:latin typeface="Arial"/>
                <a:ea typeface="Times New Roman"/>
              </a:rPr>
              <a:t>transparencia, eficacia, eficiencia y sostenibilidad de las intervencion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416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-4944960" y="4295880"/>
            <a:ext cx="334944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-39600" bIns="-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1646280" y="138240"/>
            <a:ext cx="8370720" cy="7722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Política Nacional de Cooperación Técnica Internacional (PNCT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APCI Politica"/>
          <p:cNvPicPr/>
          <p:nvPr/>
        </p:nvPicPr>
        <p:blipFill>
          <a:blip r:embed="rId2"/>
          <a:stretch/>
        </p:blipFill>
        <p:spPr>
          <a:xfrm>
            <a:off x="733320" y="1608120"/>
            <a:ext cx="2114640" cy="297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7"/>
          <p:cNvSpPr/>
          <p:nvPr/>
        </p:nvSpPr>
        <p:spPr>
          <a:xfrm>
            <a:off x="538200" y="5908680"/>
            <a:ext cx="141120" cy="123840"/>
          </a:xfrm>
          <a:prstGeom prst="rect">
            <a:avLst/>
          </a:prstGeom>
          <a:solidFill>
            <a:srgbClr val="002570"/>
          </a:solidFill>
          <a:ln w="0">
            <a:noFill/>
          </a:ln>
          <a:effectLst>
            <a:outerShdw dist="17819" dir="2700000" blurRad="0" rotWithShape="0">
              <a:srgbClr val="0016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579600" y="5396040"/>
            <a:ext cx="139680" cy="123840"/>
          </a:xfrm>
          <a:prstGeom prst="rect">
            <a:avLst/>
          </a:prstGeom>
          <a:solidFill>
            <a:srgbClr val="002570"/>
          </a:solidFill>
          <a:ln w="0">
            <a:noFill/>
          </a:ln>
          <a:effectLst>
            <a:outerShdw dist="17819" dir="2700000" blurRad="0" rotWithShape="0">
              <a:srgbClr val="0016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503280" y="6843600"/>
            <a:ext cx="139680" cy="122400"/>
          </a:xfrm>
          <a:prstGeom prst="rect">
            <a:avLst/>
          </a:prstGeom>
          <a:solidFill>
            <a:srgbClr val="002570"/>
          </a:solidFill>
          <a:ln w="0">
            <a:noFill/>
          </a:ln>
          <a:effectLst>
            <a:outerShdw dist="17819" dir="2700000" blurRad="0" rotWithShape="0">
              <a:srgbClr val="0016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7437600" y="7083360"/>
            <a:ext cx="2114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7DF94FCE-FBEE-4EB8-9FE2-973BE2D7E8D6}" type="slidenum"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66 Flecha derecha"/>
          <p:cNvSpPr/>
          <p:nvPr/>
        </p:nvSpPr>
        <p:spPr>
          <a:xfrm>
            <a:off x="961920" y="722160"/>
            <a:ext cx="9029880" cy="1236960"/>
          </a:xfrm>
          <a:prstGeom prst="rightArrow">
            <a:avLst>
              <a:gd name="adj1" fmla="val 50000"/>
              <a:gd name="adj2" fmla="val 23489"/>
            </a:avLst>
          </a:prstGeom>
          <a:solidFill>
            <a:srgbClr val="6699ff"/>
          </a:solidFill>
          <a:ln w="12600">
            <a:solidFill>
              <a:srgbClr val="00956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1317600" y="231840"/>
            <a:ext cx="7908840" cy="5133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Metodología para la actualización de la PNCT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1206360" y="1154160"/>
            <a:ext cx="1836720" cy="711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I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1190520" y="2141640"/>
            <a:ext cx="1960560" cy="82872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Corroboración de l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 u="sng">
                <a:solidFill>
                  <a:srgbClr val="3333cc"/>
                </a:solidFill>
                <a:uFillTx/>
                <a:latin typeface="Arial"/>
              </a:rPr>
              <a:t>vigencia de los ejes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 u="sng">
                <a:solidFill>
                  <a:srgbClr val="3333cc"/>
                </a:solidFill>
                <a:uFillTx/>
                <a:latin typeface="Arial"/>
              </a:rPr>
              <a:t>objetivos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estratégic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de la PNC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Marcador de número de diapositiva"/>
          <p:cNvSpPr/>
          <p:nvPr/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5C355CDC-FEF9-4CA7-A903-6B14BA52B173}" type="slidenum">
              <a:rPr b="0" lang="es-ES_tradn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838080" y="822240"/>
            <a:ext cx="8818560" cy="0"/>
          </a:xfrm>
          <a:prstGeom prst="line">
            <a:avLst/>
          </a:prstGeom>
          <a:ln w="9360">
            <a:solidFill>
              <a:srgbClr val="3e77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logotipopq"/>
          <p:cNvPicPr/>
          <p:nvPr/>
        </p:nvPicPr>
        <p:blipFill>
          <a:blip r:embed="rId2"/>
          <a:stretch/>
        </p:blipFill>
        <p:spPr>
          <a:xfrm>
            <a:off x="290520" y="5397480"/>
            <a:ext cx="700200" cy="515880"/>
          </a:xfrm>
          <a:prstGeom prst="rect">
            <a:avLst/>
          </a:prstGeom>
          <a:ln w="0">
            <a:noFill/>
          </a:ln>
        </p:spPr>
      </p:pic>
      <p:sp>
        <p:nvSpPr>
          <p:cNvPr id="113" name="38 Elipse"/>
          <p:cNvSpPr/>
          <p:nvPr/>
        </p:nvSpPr>
        <p:spPr>
          <a:xfrm>
            <a:off x="171360" y="4640400"/>
            <a:ext cx="987480" cy="6825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956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3430440" y="2127240"/>
            <a:ext cx="1959120" cy="82692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Determinación de l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 u="sng">
                <a:solidFill>
                  <a:srgbClr val="3333cc"/>
                </a:solidFill>
                <a:uFillTx/>
                <a:latin typeface="Arial"/>
              </a:rPr>
              <a:t>ejes y objetivos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PNCTI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5545080" y="2146320"/>
            <a:ext cx="2113200" cy="811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Determinación de l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 u="sng">
                <a:solidFill>
                  <a:srgbClr val="3333cc"/>
                </a:solidFill>
                <a:uFillTx/>
                <a:latin typeface="Arial"/>
              </a:rPr>
              <a:t>objetivos específicos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3510000" y="1150920"/>
            <a:ext cx="1836720" cy="711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II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5683320" y="1149480"/>
            <a:ext cx="1836720" cy="711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III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7816680" y="1171440"/>
            <a:ext cx="1837080" cy="7113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IV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7"/>
          <p:cNvSpPr/>
          <p:nvPr/>
        </p:nvSpPr>
        <p:spPr>
          <a:xfrm>
            <a:off x="7797960" y="2144880"/>
            <a:ext cx="1984320" cy="82836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 u="sng">
                <a:solidFill>
                  <a:srgbClr val="3333cc"/>
                </a:solidFill>
                <a:uFillTx/>
                <a:latin typeface="Arial"/>
              </a:rPr>
              <a:t>PNC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validada y actualizad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76 Documento"/>
          <p:cNvSpPr/>
          <p:nvPr/>
        </p:nvSpPr>
        <p:spPr>
          <a:xfrm>
            <a:off x="1279440" y="5532480"/>
            <a:ext cx="1805040" cy="81576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Incidencia de los ejes  y objetivos estratégicos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e la PNCTI con los documentos analiz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7 Documento"/>
          <p:cNvSpPr/>
          <p:nvPr/>
        </p:nvSpPr>
        <p:spPr>
          <a:xfrm>
            <a:off x="1263600" y="3154320"/>
            <a:ext cx="1781280" cy="91908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NCTI vs.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ocumentos estratégicos de desarrollo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(Estado, Nacionales, PESEM, PDR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8 Documento"/>
          <p:cNvSpPr/>
          <p:nvPr/>
        </p:nvSpPr>
        <p:spPr>
          <a:xfrm>
            <a:off x="1274760" y="4187880"/>
            <a:ext cx="1757520" cy="59688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NCTI vs.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Acuerdo Nacional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y PNCTI vs.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lan Bicentenar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9 Documento"/>
          <p:cNvSpPr/>
          <p:nvPr/>
        </p:nvSpPr>
        <p:spPr>
          <a:xfrm>
            <a:off x="1284120" y="4908600"/>
            <a:ext cx="1748160" cy="45396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Análisis DAFO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e la CINR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80 Pentágono"/>
          <p:cNvGrpSpPr/>
          <p:nvPr/>
        </p:nvGrpSpPr>
        <p:grpSpPr>
          <a:xfrm>
            <a:off x="1271520" y="6510240"/>
            <a:ext cx="2049120" cy="931680"/>
            <a:chOff x="1271520" y="6510240"/>
            <a:chExt cx="2049120" cy="931680"/>
          </a:xfrm>
        </p:grpSpPr>
        <p:pic>
          <p:nvPicPr>
            <p:cNvPr id="125" name="80 Pentágono" descr=""/>
            <p:cNvPicPr/>
            <p:nvPr/>
          </p:nvPicPr>
          <p:blipFill>
            <a:blip r:embed="rId3"/>
            <a:stretch/>
          </p:blipFill>
          <p:spPr>
            <a:xfrm>
              <a:off x="1271520" y="6510240"/>
              <a:ext cx="20491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290600" y="6531120"/>
              <a:ext cx="1792440" cy="8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just"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Arial"/>
                </a:rPr>
                <a:t>Nuevo Eje 5:</a:t>
              </a: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so sostenible de los RRNN y Gestión Ambient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81 Flecha doblada hacia arriba"/>
          <p:cNvSpPr/>
          <p:nvPr/>
        </p:nvSpPr>
        <p:spPr>
          <a:xfrm flipH="1" rot="5400000">
            <a:off x="-241200" y="3213000"/>
            <a:ext cx="2155680" cy="540000"/>
          </a:xfrm>
          <a:custGeom>
            <a:avLst/>
            <a:gdLst>
              <a:gd name="textAreaLeft" fmla="*/ 0 w 2155680"/>
              <a:gd name="textAreaRight" fmla="*/ 2088720 w 2155680"/>
              <a:gd name="textAreaTop" fmla="*/ 405000 h 540000"/>
              <a:gd name="textAreaBottom" fmla="*/ 540360 h 540000"/>
            </a:gdLst>
            <a:ahLst/>
            <a:rect l="textAreaLeft" t="textAreaTop" r="textAreaRight" b="textAreaBottom"/>
            <a:pathLst>
              <a:path w="1947862" h="485775">
                <a:moveTo>
                  <a:pt x="0" y="364331"/>
                </a:moveTo>
                <a:lnTo>
                  <a:pt x="1765696" y="364331"/>
                </a:lnTo>
                <a:lnTo>
                  <a:pt x="1765696" y="121444"/>
                </a:lnTo>
                <a:lnTo>
                  <a:pt x="1704975" y="121444"/>
                </a:lnTo>
                <a:lnTo>
                  <a:pt x="1826418" y="0"/>
                </a:lnTo>
                <a:lnTo>
                  <a:pt x="1947862" y="121444"/>
                </a:lnTo>
                <a:lnTo>
                  <a:pt x="1887140" y="121444"/>
                </a:lnTo>
                <a:lnTo>
                  <a:pt x="1887140" y="485775"/>
                </a:lnTo>
                <a:lnTo>
                  <a:pt x="0" y="485775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84 Flecha abajo"/>
          <p:cNvSpPr/>
          <p:nvPr/>
        </p:nvSpPr>
        <p:spPr>
          <a:xfrm>
            <a:off x="2557440" y="2982960"/>
            <a:ext cx="211320" cy="183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87 Flecha abajo"/>
          <p:cNvSpPr/>
          <p:nvPr/>
        </p:nvSpPr>
        <p:spPr>
          <a:xfrm>
            <a:off x="2511360" y="6229440"/>
            <a:ext cx="295200" cy="23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91 Flecha a la derecha con muesca"/>
          <p:cNvSpPr/>
          <p:nvPr/>
        </p:nvSpPr>
        <p:spPr>
          <a:xfrm>
            <a:off x="171360" y="6689880"/>
            <a:ext cx="1158840" cy="642960"/>
          </a:xfrm>
          <a:custGeom>
            <a:avLst/>
            <a:gdLst>
              <a:gd name="textAreaLeft" fmla="*/ 108360 w 1158840"/>
              <a:gd name="textAreaRight" fmla="*/ 1050480 w 115884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54" y="5400"/>
                </a:lnTo>
                <a:lnTo>
                  <a:pt x="17554" y="0"/>
                </a:lnTo>
                <a:lnTo>
                  <a:pt x="21600" y="10800"/>
                </a:lnTo>
                <a:lnTo>
                  <a:pt x="17554" y="21600"/>
                </a:lnTo>
                <a:lnTo>
                  <a:pt x="17554" y="16200"/>
                </a:lnTo>
                <a:lnTo>
                  <a:pt x="0" y="16200"/>
                </a:lnTo>
                <a:lnTo>
                  <a:pt x="202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92 Documento"/>
          <p:cNvSpPr/>
          <p:nvPr/>
        </p:nvSpPr>
        <p:spPr>
          <a:xfrm>
            <a:off x="3462480" y="3165480"/>
            <a:ext cx="1850760" cy="121140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oordinaciones con representantes de la Dirección Nacional de Coordinación y Planeamiento Estratégico de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CE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95 Documento"/>
          <p:cNvSpPr/>
          <p:nvPr/>
        </p:nvSpPr>
        <p:spPr>
          <a:xfrm>
            <a:off x="3451320" y="4849920"/>
            <a:ext cx="1833480" cy="72072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eterminación de los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Ejes y Objetivos Estratégicos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e la PNC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96 Pentágono"/>
          <p:cNvGrpSpPr/>
          <p:nvPr/>
        </p:nvGrpSpPr>
        <p:grpSpPr>
          <a:xfrm>
            <a:off x="3416400" y="6564240"/>
            <a:ext cx="2063160" cy="856800"/>
            <a:chOff x="3416400" y="6564240"/>
            <a:chExt cx="2063160" cy="856800"/>
          </a:xfrm>
        </p:grpSpPr>
        <p:pic>
          <p:nvPicPr>
            <p:cNvPr id="134" name="96 Pentágono" descr=""/>
            <p:cNvPicPr/>
            <p:nvPr/>
          </p:nvPicPr>
          <p:blipFill>
            <a:blip r:embed="rId4"/>
            <a:stretch/>
          </p:blipFill>
          <p:spPr>
            <a:xfrm>
              <a:off x="3416400" y="6564240"/>
              <a:ext cx="206316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437280" y="6581520"/>
              <a:ext cx="18255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Arial"/>
                </a:rPr>
                <a:t>5 Ejes </a:t>
              </a: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Arial"/>
                </a:rPr>
                <a:t>13 Objetivos </a:t>
              </a: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97 Documento"/>
          <p:cNvSpPr/>
          <p:nvPr/>
        </p:nvSpPr>
        <p:spPr>
          <a:xfrm>
            <a:off x="5688000" y="3149640"/>
            <a:ext cx="1800360" cy="74124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onfección de un menú de alternativas de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osibles objetivos específic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98 Documento"/>
          <p:cNvSpPr/>
          <p:nvPr/>
        </p:nvSpPr>
        <p:spPr>
          <a:xfrm>
            <a:off x="5727600" y="5405400"/>
            <a:ext cx="1798560" cy="106056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aportes de los representantes del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Comité de Coordinación Multisectorial - CC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99 Documento"/>
          <p:cNvSpPr/>
          <p:nvPr/>
        </p:nvSpPr>
        <p:spPr>
          <a:xfrm>
            <a:off x="5689440" y="4032360"/>
            <a:ext cx="1784520" cy="50004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portes de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32 institu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00 Documento"/>
          <p:cNvSpPr/>
          <p:nvPr/>
        </p:nvSpPr>
        <p:spPr>
          <a:xfrm>
            <a:off x="5715000" y="4675320"/>
            <a:ext cx="1773360" cy="58104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Sistematización  y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validación de apor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101 Pentágono"/>
          <p:cNvGrpSpPr/>
          <p:nvPr/>
        </p:nvGrpSpPr>
        <p:grpSpPr>
          <a:xfrm>
            <a:off x="5664240" y="6556320"/>
            <a:ext cx="2096640" cy="864720"/>
            <a:chOff x="5664240" y="6556320"/>
            <a:chExt cx="2096640" cy="864720"/>
          </a:xfrm>
        </p:grpSpPr>
        <p:pic>
          <p:nvPicPr>
            <p:cNvPr id="141" name="101 Pentágono" descr=""/>
            <p:cNvPicPr/>
            <p:nvPr/>
          </p:nvPicPr>
          <p:blipFill>
            <a:blip r:embed="rId5"/>
            <a:stretch/>
          </p:blipFill>
          <p:spPr>
            <a:xfrm>
              <a:off x="5664240" y="6556320"/>
              <a:ext cx="209664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681520" y="6579000"/>
              <a:ext cx="186264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"/>
                </a:rPr>
                <a:t>Documento Prelimina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102 Flecha abajo"/>
          <p:cNvSpPr/>
          <p:nvPr/>
        </p:nvSpPr>
        <p:spPr>
          <a:xfrm>
            <a:off x="4756320" y="5599080"/>
            <a:ext cx="331560" cy="868320"/>
          </a:xfrm>
          <a:prstGeom prst="downArrow">
            <a:avLst>
              <a:gd name="adj1" fmla="val 50000"/>
              <a:gd name="adj2" fmla="val 49832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04 Flecha abajo"/>
          <p:cNvSpPr/>
          <p:nvPr/>
        </p:nvSpPr>
        <p:spPr>
          <a:xfrm>
            <a:off x="4832280" y="4179960"/>
            <a:ext cx="177840" cy="630000"/>
          </a:xfrm>
          <a:prstGeom prst="downArrow">
            <a:avLst>
              <a:gd name="adj1" fmla="val 50000"/>
              <a:gd name="adj2" fmla="val 49825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08 Flecha abajo"/>
          <p:cNvSpPr/>
          <p:nvPr/>
        </p:nvSpPr>
        <p:spPr>
          <a:xfrm>
            <a:off x="7089840" y="3772080"/>
            <a:ext cx="212760" cy="18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0 Flecha abajo"/>
          <p:cNvSpPr/>
          <p:nvPr/>
        </p:nvSpPr>
        <p:spPr>
          <a:xfrm>
            <a:off x="7043760" y="6319800"/>
            <a:ext cx="295200" cy="23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11 Documento"/>
          <p:cNvSpPr/>
          <p:nvPr/>
        </p:nvSpPr>
        <p:spPr>
          <a:xfrm>
            <a:off x="7861320" y="3935520"/>
            <a:ext cx="1798560" cy="70488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resentación del documento final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e la PNCTI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nte el CC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12 Documento"/>
          <p:cNvSpPr/>
          <p:nvPr/>
        </p:nvSpPr>
        <p:spPr>
          <a:xfrm>
            <a:off x="7872480" y="3184560"/>
            <a:ext cx="1798560" cy="53496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roceso de validación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el documento prelimi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13 Documento"/>
          <p:cNvSpPr/>
          <p:nvPr/>
        </p:nvSpPr>
        <p:spPr>
          <a:xfrm>
            <a:off x="7816680" y="4822920"/>
            <a:ext cx="1800360" cy="48564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Formulación final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e la PNC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14 Documento"/>
          <p:cNvSpPr/>
          <p:nvPr/>
        </p:nvSpPr>
        <p:spPr>
          <a:xfrm>
            <a:off x="7827840" y="5559480"/>
            <a:ext cx="1798920" cy="723960"/>
          </a:xfrm>
          <a:prstGeom prst="flowChartDocument">
            <a:avLst/>
          </a:prstGeom>
          <a:solidFill>
            <a:srgbClr val="d2d2f4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roceso de aprobación de la PNCTI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(Dirección Ejecutiva y Consejo Directi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116 Pentágono"/>
          <p:cNvGrpSpPr/>
          <p:nvPr/>
        </p:nvGrpSpPr>
        <p:grpSpPr>
          <a:xfrm>
            <a:off x="7829640" y="6545160"/>
            <a:ext cx="1988640" cy="861840"/>
            <a:chOff x="7829640" y="6545160"/>
            <a:chExt cx="1988640" cy="861840"/>
          </a:xfrm>
        </p:grpSpPr>
        <p:pic>
          <p:nvPicPr>
            <p:cNvPr id="152" name="116 Pentágono" descr=""/>
            <p:cNvPicPr/>
            <p:nvPr/>
          </p:nvPicPr>
          <p:blipFill>
            <a:blip r:embed="rId6"/>
            <a:stretch/>
          </p:blipFill>
          <p:spPr>
            <a:xfrm>
              <a:off x="7829640" y="6545160"/>
              <a:ext cx="198864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850520" y="6566040"/>
              <a:ext cx="174924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"/>
                </a:rPr>
                <a:t>PNCT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"/>
                </a:rPr>
                <a:t>actualizad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121 Flecha abajo"/>
          <p:cNvSpPr/>
          <p:nvPr/>
        </p:nvSpPr>
        <p:spPr>
          <a:xfrm>
            <a:off x="9177480" y="6211800"/>
            <a:ext cx="287280" cy="293760"/>
          </a:xfrm>
          <a:prstGeom prst="downArrow">
            <a:avLst>
              <a:gd name="adj1" fmla="val 50000"/>
              <a:gd name="adj2" fmla="val 49901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122 Flecha abajo"/>
          <p:cNvGrpSpPr/>
          <p:nvPr/>
        </p:nvGrpSpPr>
        <p:grpSpPr>
          <a:xfrm>
            <a:off x="1706400" y="1889280"/>
            <a:ext cx="912600" cy="215280"/>
            <a:chOff x="1706400" y="1889280"/>
            <a:chExt cx="912600" cy="215280"/>
          </a:xfrm>
        </p:grpSpPr>
        <p:pic>
          <p:nvPicPr>
            <p:cNvPr id="156" name="122 Flecha abajo" descr=""/>
            <p:cNvPicPr/>
            <p:nvPr/>
          </p:nvPicPr>
          <p:blipFill>
            <a:blip r:embed="rId7"/>
            <a:stretch/>
          </p:blipFill>
          <p:spPr>
            <a:xfrm>
              <a:off x="1706400" y="1889280"/>
              <a:ext cx="912600" cy="2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65240" y="1906920"/>
              <a:ext cx="3945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3 Flecha abajo"/>
          <p:cNvGrpSpPr/>
          <p:nvPr/>
        </p:nvGrpSpPr>
        <p:grpSpPr>
          <a:xfrm>
            <a:off x="3957480" y="1903320"/>
            <a:ext cx="914040" cy="207720"/>
            <a:chOff x="3957480" y="1903320"/>
            <a:chExt cx="914040" cy="207720"/>
          </a:xfrm>
        </p:grpSpPr>
        <p:pic>
          <p:nvPicPr>
            <p:cNvPr id="159" name="123 Flecha abajo" descr=""/>
            <p:cNvPicPr/>
            <p:nvPr/>
          </p:nvPicPr>
          <p:blipFill>
            <a:blip r:embed="rId8"/>
            <a:stretch/>
          </p:blipFill>
          <p:spPr>
            <a:xfrm>
              <a:off x="3957480" y="1903320"/>
              <a:ext cx="9140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216320" y="1917000"/>
              <a:ext cx="3945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124 Flecha abajo"/>
          <p:cNvGrpSpPr/>
          <p:nvPr/>
        </p:nvGrpSpPr>
        <p:grpSpPr>
          <a:xfrm>
            <a:off x="6197760" y="1903320"/>
            <a:ext cx="914040" cy="207720"/>
            <a:chOff x="6197760" y="1903320"/>
            <a:chExt cx="914040" cy="207720"/>
          </a:xfrm>
        </p:grpSpPr>
        <p:pic>
          <p:nvPicPr>
            <p:cNvPr id="162" name="124 Flecha abajo" descr=""/>
            <p:cNvPicPr/>
            <p:nvPr/>
          </p:nvPicPr>
          <p:blipFill>
            <a:blip r:embed="rId9"/>
            <a:stretch/>
          </p:blipFill>
          <p:spPr>
            <a:xfrm>
              <a:off x="6197760" y="1903320"/>
              <a:ext cx="9140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454800" y="1915560"/>
              <a:ext cx="3945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125 Flecha abajo"/>
          <p:cNvGrpSpPr/>
          <p:nvPr/>
        </p:nvGrpSpPr>
        <p:grpSpPr>
          <a:xfrm>
            <a:off x="8396280" y="1895400"/>
            <a:ext cx="915480" cy="215640"/>
            <a:chOff x="8396280" y="1895400"/>
            <a:chExt cx="915480" cy="215640"/>
          </a:xfrm>
        </p:grpSpPr>
        <p:pic>
          <p:nvPicPr>
            <p:cNvPr id="165" name="125 Flecha abajo" descr=""/>
            <p:cNvPicPr/>
            <p:nvPr/>
          </p:nvPicPr>
          <p:blipFill>
            <a:blip r:embed="rId10"/>
            <a:stretch/>
          </p:blipFill>
          <p:spPr>
            <a:xfrm>
              <a:off x="8396280" y="1895400"/>
              <a:ext cx="91548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8653680" y="1911240"/>
              <a:ext cx="39528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126 Flecha abajo"/>
          <p:cNvSpPr/>
          <p:nvPr/>
        </p:nvSpPr>
        <p:spPr>
          <a:xfrm>
            <a:off x="2556000" y="3952800"/>
            <a:ext cx="210960" cy="184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27 Flecha abajo"/>
          <p:cNvSpPr/>
          <p:nvPr/>
        </p:nvSpPr>
        <p:spPr>
          <a:xfrm>
            <a:off x="2552760" y="5330880"/>
            <a:ext cx="210960" cy="183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28 Flecha abajo"/>
          <p:cNvSpPr/>
          <p:nvPr/>
        </p:nvSpPr>
        <p:spPr>
          <a:xfrm>
            <a:off x="2567160" y="4703760"/>
            <a:ext cx="212400" cy="184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29 Flecha abajo"/>
          <p:cNvSpPr/>
          <p:nvPr/>
        </p:nvSpPr>
        <p:spPr>
          <a:xfrm>
            <a:off x="4822920" y="2981160"/>
            <a:ext cx="209520" cy="184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30 Flecha abajo"/>
          <p:cNvSpPr/>
          <p:nvPr/>
        </p:nvSpPr>
        <p:spPr>
          <a:xfrm>
            <a:off x="7075440" y="2952720"/>
            <a:ext cx="209520" cy="182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31 Flecha abajo"/>
          <p:cNvSpPr/>
          <p:nvPr/>
        </p:nvSpPr>
        <p:spPr>
          <a:xfrm>
            <a:off x="7113600" y="4479840"/>
            <a:ext cx="214200" cy="182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32 Flecha abajo"/>
          <p:cNvSpPr/>
          <p:nvPr/>
        </p:nvSpPr>
        <p:spPr>
          <a:xfrm>
            <a:off x="7086600" y="5200560"/>
            <a:ext cx="212760" cy="181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33 Flecha abajo"/>
          <p:cNvSpPr/>
          <p:nvPr/>
        </p:nvSpPr>
        <p:spPr>
          <a:xfrm>
            <a:off x="9259920" y="3002040"/>
            <a:ext cx="212760" cy="185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34 Flecha abajo"/>
          <p:cNvSpPr/>
          <p:nvPr/>
        </p:nvSpPr>
        <p:spPr>
          <a:xfrm>
            <a:off x="9271080" y="3684600"/>
            <a:ext cx="210960" cy="183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35 Flecha abajo"/>
          <p:cNvSpPr/>
          <p:nvPr/>
        </p:nvSpPr>
        <p:spPr>
          <a:xfrm>
            <a:off x="9256680" y="4549680"/>
            <a:ext cx="209520" cy="182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36 Flecha abajo"/>
          <p:cNvSpPr/>
          <p:nvPr/>
        </p:nvSpPr>
        <p:spPr>
          <a:xfrm>
            <a:off x="9218520" y="5273640"/>
            <a:ext cx="211320" cy="185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60 Conector recto"/>
          <p:cNvSpPr/>
          <p:nvPr/>
        </p:nvSpPr>
        <p:spPr>
          <a:xfrm flipH="1">
            <a:off x="7730640" y="1509840"/>
            <a:ext cx="11160" cy="571320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56160" y="6583320"/>
            <a:ext cx="2286000" cy="1006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0"/>
          <p:cNvSpPr/>
          <p:nvPr/>
        </p:nvSpPr>
        <p:spPr>
          <a:xfrm>
            <a:off x="4275000" y="2440080"/>
            <a:ext cx="1600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14 Diagrama" descr=""/>
          <p:cNvPicPr/>
          <p:nvPr/>
        </p:nvPicPr>
        <p:blipFill>
          <a:blip r:embed="rId2"/>
          <a:stretch/>
        </p:blipFill>
        <p:spPr>
          <a:xfrm>
            <a:off x="5203800" y="1531800"/>
            <a:ext cx="4784760" cy="5618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7"/>
          <p:cNvSpPr/>
          <p:nvPr/>
        </p:nvSpPr>
        <p:spPr>
          <a:xfrm>
            <a:off x="474840" y="182520"/>
            <a:ext cx="9121680" cy="7722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istematización de las Políticas Estratégicas con los Objetivos Estratégicos establecidos por la Nueva PNC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482760" y="1042920"/>
            <a:ext cx="8818560" cy="0"/>
          </a:xfrm>
          <a:prstGeom prst="line">
            <a:avLst/>
          </a:prstGeom>
          <a:ln w="9360">
            <a:solidFill>
              <a:srgbClr val="3e77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Llamada rectangular redondeada"/>
          <p:cNvSpPr/>
          <p:nvPr/>
        </p:nvSpPr>
        <p:spPr>
          <a:xfrm>
            <a:off x="6016680" y="6585120"/>
            <a:ext cx="3014640" cy="7887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c9da26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92 DOCU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2 Flecha abajo"/>
          <p:cNvSpPr/>
          <p:nvPr/>
        </p:nvSpPr>
        <p:spPr>
          <a:xfrm>
            <a:off x="7342200" y="3000240"/>
            <a:ext cx="264960" cy="8240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7 Flecha izquierda"/>
          <p:cNvSpPr/>
          <p:nvPr/>
        </p:nvSpPr>
        <p:spPr>
          <a:xfrm>
            <a:off x="8240760" y="4221000"/>
            <a:ext cx="387360" cy="254160"/>
          </a:xfrm>
          <a:prstGeom prst="leftArrow">
            <a:avLst>
              <a:gd name="adj1" fmla="val 50000"/>
              <a:gd name="adj2" fmla="val 49878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8 Flecha derecha"/>
          <p:cNvSpPr/>
          <p:nvPr/>
        </p:nvSpPr>
        <p:spPr>
          <a:xfrm>
            <a:off x="6310440" y="4233960"/>
            <a:ext cx="387360" cy="28260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9 Flecha arriba"/>
          <p:cNvSpPr/>
          <p:nvPr/>
        </p:nvSpPr>
        <p:spPr>
          <a:xfrm>
            <a:off x="7332840" y="4948200"/>
            <a:ext cx="268200" cy="611280"/>
          </a:xfrm>
          <a:prstGeom prst="upArrow">
            <a:avLst>
              <a:gd name="adj1" fmla="val 50000"/>
              <a:gd name="adj2" fmla="val 49773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11 Tabla" descr=""/>
          <p:cNvPicPr/>
          <p:nvPr/>
        </p:nvPicPr>
        <p:blipFill>
          <a:blip r:embed="rId3"/>
          <a:stretch/>
        </p:blipFill>
        <p:spPr>
          <a:xfrm>
            <a:off x="81000" y="1444680"/>
            <a:ext cx="5317920" cy="5997600"/>
          </a:xfrm>
          <a:prstGeom prst="rect">
            <a:avLst/>
          </a:prstGeom>
          <a:ln w="0">
            <a:noFill/>
          </a:ln>
        </p:spPr>
      </p:pic>
      <p:sp>
        <p:nvSpPr>
          <p:cNvPr id="190" name="17 Flecha curvada hacia arriba"/>
          <p:cNvSpPr/>
          <p:nvPr/>
        </p:nvSpPr>
        <p:spPr>
          <a:xfrm rot="10525200">
            <a:off x="1331640" y="1092240"/>
            <a:ext cx="5925960" cy="954000"/>
          </a:xfrm>
          <a:custGeom>
            <a:avLst/>
            <a:gdLst>
              <a:gd name="textAreaLeft" fmla="*/ 1391760 w 5925960"/>
              <a:gd name="textAreaRight" fmla="*/ 4414680 w 5925960"/>
              <a:gd name="textAreaTop" fmla="*/ 127800 h 954000"/>
              <a:gd name="textAreaBottom" fmla="*/ 826200 h 95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6" hR="21600" stAng="10800000" swAng="-5400000"/>
                <a:lnTo>
                  <a:pt x="11018" y="21600"/>
                </a:lnTo>
                <a:arcTo wR="10146" hR="21600" stAng="5400000" swAng="-3672186"/>
                <a:lnTo>
                  <a:pt x="21278" y="5400"/>
                </a:lnTo>
                <a:lnTo>
                  <a:pt x="20728" y="0"/>
                </a:lnTo>
                <a:lnTo>
                  <a:pt x="19534" y="5400"/>
                </a:lnTo>
                <a:lnTo>
                  <a:pt x="19970" y="5400"/>
                </a:lnTo>
                <a:arcTo wR="10146" hR="21600" stAng="1727814" swAng="3602740"/>
                <a:lnTo>
                  <a:pt x="10582" y="21580"/>
                </a:lnTo>
                <a:arcTo wR="10146" hR="21600" stAng="5469446" swAng="5330554"/>
                <a:close/>
              </a:path>
              <a:path fill="darkenLess" w="21600" h="21600">
                <a:moveTo>
                  <a:pt x="0" y="0"/>
                </a:moveTo>
                <a:arcTo wR="10146" hR="21600" stAng="10800000" swAng="-5400000"/>
                <a:lnTo>
                  <a:pt x="11018" y="21600"/>
                </a:lnTo>
                <a:arcTo wR="10146" hR="21600" stAng="5400000" swAng="69446"/>
                <a:lnTo>
                  <a:pt x="10582" y="21580"/>
                </a:lnTo>
                <a:arcTo wR="10146" hR="21600" stAng="5469446" swAng="5330554"/>
                <a:close/>
              </a:path>
            </a:pathLst>
          </a:custGeom>
          <a:solidFill>
            <a:srgbClr val="ff505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2 Botón de acción: Personalizar"/>
          <p:cNvSpPr/>
          <p:nvPr/>
        </p:nvSpPr>
        <p:spPr>
          <a:xfrm>
            <a:off x="8805960" y="7248600"/>
            <a:ext cx="1344600" cy="341280"/>
          </a:xfrm>
          <a:custGeom>
            <a:avLst/>
            <a:gdLst>
              <a:gd name="textAreaLeft" fmla="*/ 21960 w 1344600"/>
              <a:gd name="textAreaRight" fmla="*/ 1322640 w 1344600"/>
              <a:gd name="textAreaTop" fmla="*/ 21960 h 341280"/>
              <a:gd name="textAreaBottom" fmla="*/ 319320 h 341280"/>
            </a:gdLst>
            <a:ahLst/>
            <a:rect l="textAreaLeft" t="textAreaTop" r="textAreaRight" b="textAreaBottom"/>
            <a:pathLst>
              <a:path w="85034" h="21600">
                <a:moveTo>
                  <a:pt x="0" y="0"/>
                </a:moveTo>
                <a:lnTo>
                  <a:pt x="85034" y="0"/>
                </a:lnTo>
                <a:lnTo>
                  <a:pt x="85034" y="21600"/>
                </a:lnTo>
                <a:lnTo>
                  <a:pt x="0" y="21600"/>
                </a:lnTo>
                <a:close/>
              </a:path>
              <a:path fill="lightenLess" w="85034" h="21600">
                <a:moveTo>
                  <a:pt x="0" y="0"/>
                </a:moveTo>
                <a:lnTo>
                  <a:pt x="85034" y="0"/>
                </a:lnTo>
                <a:lnTo>
                  <a:pt x="83634" y="1400"/>
                </a:lnTo>
                <a:lnTo>
                  <a:pt x="1400" y="1400"/>
                </a:lnTo>
                <a:close/>
              </a:path>
              <a:path fill="darken" w="85034" h="21600">
                <a:moveTo>
                  <a:pt x="85034" y="0"/>
                </a:moveTo>
                <a:lnTo>
                  <a:pt x="85034" y="21600"/>
                </a:lnTo>
                <a:lnTo>
                  <a:pt x="83634" y="20200"/>
                </a:lnTo>
                <a:lnTo>
                  <a:pt x="83634" y="1400"/>
                </a:lnTo>
                <a:close/>
              </a:path>
              <a:path fill="darkenLess" w="85034" h="21600">
                <a:moveTo>
                  <a:pt x="85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634" y="20200"/>
                </a:lnTo>
                <a:close/>
              </a:path>
              <a:path fill="lighten" w="85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to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7"/>
          <p:cNvSpPr/>
          <p:nvPr/>
        </p:nvSpPr>
        <p:spPr>
          <a:xfrm>
            <a:off x="1798560" y="61920"/>
            <a:ext cx="7848720" cy="43704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Actualización de la PNCTI: Av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2560680" y="2957400"/>
            <a:ext cx="5887800" cy="4342680"/>
            <a:chOff x="2560680" y="2957400"/>
            <a:chExt cx="5887800" cy="4342680"/>
          </a:xfrm>
        </p:grpSpPr>
        <p:sp>
          <p:nvSpPr>
            <p:cNvPr id="194" name="AutoShape 10"/>
            <p:cNvSpPr/>
            <p:nvPr/>
          </p:nvSpPr>
          <p:spPr>
            <a:xfrm flipV="1">
              <a:off x="2560680" y="5385240"/>
              <a:ext cx="5887800" cy="1690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2560680" y="7075080"/>
              <a:ext cx="5872680" cy="225000"/>
            </a:xfrm>
            <a:prstGeom prst="rect">
              <a:avLst/>
            </a:prstGeom>
            <a:gradFill rotWithShape="0">
              <a:gsLst>
                <a:gs pos="0">
                  <a:srgbClr val="00297a"/>
                </a:gs>
                <a:gs pos="100000">
                  <a:srgbClr val="0013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4"/>
            <p:cNvGrpSpPr/>
            <p:nvPr/>
          </p:nvGrpSpPr>
          <p:grpSpPr>
            <a:xfrm>
              <a:off x="2704320" y="5511600"/>
              <a:ext cx="5442840" cy="1212840"/>
              <a:chOff x="2704320" y="5511600"/>
              <a:chExt cx="5442840" cy="1212840"/>
            </a:xfrm>
          </p:grpSpPr>
          <p:sp>
            <p:nvSpPr>
              <p:cNvPr id="197" name="Freeform 15"/>
              <p:cNvSpPr/>
              <p:nvPr/>
            </p:nvSpPr>
            <p:spPr>
              <a:xfrm>
                <a:off x="7271280" y="5511600"/>
                <a:ext cx="160560" cy="158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6"/>
              <p:cNvSpPr/>
              <p:nvPr/>
            </p:nvSpPr>
            <p:spPr>
              <a:xfrm>
                <a:off x="5580360" y="5511600"/>
                <a:ext cx="1834560" cy="158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"/>
              <p:cNvSpPr/>
              <p:nvPr/>
            </p:nvSpPr>
            <p:spPr>
              <a:xfrm>
                <a:off x="5570280" y="5511600"/>
                <a:ext cx="151560" cy="158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8"/>
              <p:cNvSpPr/>
              <p:nvPr/>
            </p:nvSpPr>
            <p:spPr>
              <a:xfrm>
                <a:off x="4728960" y="5511600"/>
                <a:ext cx="984960" cy="158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9"/>
              <p:cNvSpPr/>
              <p:nvPr/>
            </p:nvSpPr>
            <p:spPr>
              <a:xfrm>
                <a:off x="4728960" y="5511600"/>
                <a:ext cx="143280" cy="158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0"/>
              <p:cNvSpPr/>
              <p:nvPr/>
            </p:nvSpPr>
            <p:spPr>
              <a:xfrm>
                <a:off x="3879360" y="5511600"/>
                <a:ext cx="992880" cy="158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1"/>
              <p:cNvSpPr/>
              <p:nvPr/>
            </p:nvSpPr>
            <p:spPr>
              <a:xfrm>
                <a:off x="7288560" y="5511600"/>
                <a:ext cx="858600" cy="1212840"/>
              </a:xfrm>
              <a:prstGeom prst="pie">
                <a:avLst/>
              </a:prstGeom>
              <a:solidFill>
                <a:srgbClr val="5d7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2"/>
              <p:cNvSpPr/>
              <p:nvPr/>
            </p:nvSpPr>
            <p:spPr>
              <a:xfrm>
                <a:off x="2704320" y="5672160"/>
                <a:ext cx="5331600" cy="1025280"/>
              </a:xfrm>
              <a:prstGeom prst="pie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3"/>
            <p:cNvGrpSpPr/>
            <p:nvPr/>
          </p:nvGrpSpPr>
          <p:grpSpPr>
            <a:xfrm>
              <a:off x="3513600" y="4408560"/>
              <a:ext cx="2200320" cy="1230840"/>
              <a:chOff x="3513600" y="4408560"/>
              <a:chExt cx="2200320" cy="1230840"/>
            </a:xfrm>
          </p:grpSpPr>
          <p:sp>
            <p:nvSpPr>
              <p:cNvPr id="206" name="Freeform 24"/>
              <p:cNvSpPr/>
              <p:nvPr/>
            </p:nvSpPr>
            <p:spPr>
              <a:xfrm>
                <a:off x="5570280" y="4408560"/>
                <a:ext cx="143640" cy="1230840"/>
              </a:xfrm>
              <a:prstGeom prst="pie">
                <a:avLst/>
              </a:prstGeom>
              <a:solidFill>
                <a:srgbClr val="93a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>
                <a:off x="4619520" y="4408560"/>
                <a:ext cx="1094400" cy="165960"/>
              </a:xfrm>
              <a:prstGeom prst="pie">
                <a:avLst/>
              </a:prstGeom>
              <a:solidFill>
                <a:srgbClr val="637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3513600" y="4556880"/>
                <a:ext cx="2083320" cy="1064880"/>
              </a:xfrm>
              <a:prstGeom prst="pie">
                <a:avLst/>
              </a:prstGeom>
              <a:solidFill>
                <a:srgbClr val="f7f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27"/>
            <p:cNvGrpSpPr/>
            <p:nvPr/>
          </p:nvGrpSpPr>
          <p:grpSpPr>
            <a:xfrm>
              <a:off x="5597640" y="4408560"/>
              <a:ext cx="1817280" cy="1230840"/>
              <a:chOff x="5597640" y="4408560"/>
              <a:chExt cx="1817280" cy="1230840"/>
            </a:xfrm>
          </p:grpSpPr>
          <p:sp>
            <p:nvSpPr>
              <p:cNvPr id="210" name="Freeform 28"/>
              <p:cNvSpPr/>
              <p:nvPr/>
            </p:nvSpPr>
            <p:spPr>
              <a:xfrm>
                <a:off x="6555960" y="4408560"/>
                <a:ext cx="858960" cy="1230840"/>
              </a:xfrm>
              <a:prstGeom prst="pie">
                <a:avLst/>
              </a:prstGeom>
              <a:solidFill>
                <a:srgbClr val="899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9"/>
              <p:cNvSpPr/>
              <p:nvPr/>
            </p:nvSpPr>
            <p:spPr>
              <a:xfrm>
                <a:off x="5597640" y="4408560"/>
                <a:ext cx="1102320" cy="165960"/>
              </a:xfrm>
              <a:prstGeom prst="pie">
                <a:avLst/>
              </a:prstGeom>
              <a:solidFill>
                <a:srgbClr val="637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0"/>
              <p:cNvSpPr/>
              <p:nvPr/>
            </p:nvSpPr>
            <p:spPr>
              <a:xfrm>
                <a:off x="5597640" y="4574520"/>
                <a:ext cx="1673640" cy="1064880"/>
              </a:xfrm>
              <a:prstGeom prst="pie">
                <a:avLst/>
              </a:prstGeom>
              <a:solidFill>
                <a:srgbClr val="92d05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31"/>
            <p:cNvGrpSpPr/>
            <p:nvPr/>
          </p:nvGrpSpPr>
          <p:grpSpPr>
            <a:xfrm>
              <a:off x="4374360" y="2957400"/>
              <a:ext cx="2315520" cy="1588680"/>
              <a:chOff x="4374360" y="2957400"/>
              <a:chExt cx="2315520" cy="1588680"/>
            </a:xfrm>
          </p:grpSpPr>
          <p:sp>
            <p:nvSpPr>
              <p:cNvPr id="214" name="Freeform 32"/>
              <p:cNvSpPr/>
              <p:nvPr/>
            </p:nvSpPr>
            <p:spPr>
              <a:xfrm>
                <a:off x="5587560" y="2959200"/>
                <a:ext cx="143640" cy="167760"/>
              </a:xfrm>
              <a:prstGeom prst="pie">
                <a:avLst/>
              </a:prstGeom>
              <a:solidFill>
                <a:srgbClr val="a8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33"/>
              <p:cNvSpPr/>
              <p:nvPr/>
            </p:nvSpPr>
            <p:spPr>
              <a:xfrm>
                <a:off x="5459400" y="2957400"/>
                <a:ext cx="1230480" cy="1588680"/>
              </a:xfrm>
              <a:prstGeom prst="pie">
                <a:avLst/>
              </a:prstGeom>
              <a:solidFill>
                <a:srgbClr val="b4b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4"/>
              <p:cNvSpPr/>
              <p:nvPr/>
            </p:nvSpPr>
            <p:spPr>
              <a:xfrm>
                <a:off x="4374360" y="3126960"/>
                <a:ext cx="2173320" cy="1419120"/>
              </a:xfrm>
              <a:prstGeom prst="pie">
                <a:avLst/>
              </a:prstGeom>
              <a:solidFill>
                <a:srgbClr val="fcd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4480"/>
                    <a:tab algn="l" pos="2028960"/>
                    <a:tab algn="l" pos="3043080"/>
                    <a:tab algn="l" pos="4057560"/>
                    <a:tab algn="l" pos="5072040"/>
                    <a:tab algn="l" pos="6086520"/>
                    <a:tab algn="l" pos="7101000"/>
                    <a:tab algn="l" pos="8115480"/>
                    <a:tab algn="l" pos="9129600"/>
                    <a:tab algn="l" pos="1014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Rectangle 35"/>
            <p:cNvSpPr/>
            <p:nvPr/>
          </p:nvSpPr>
          <p:spPr>
            <a:xfrm>
              <a:off x="3716640" y="5911920"/>
              <a:ext cx="1719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</a:rPr>
                <a:t>Seguridad Hum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6"/>
            <p:cNvSpPr/>
            <p:nvPr/>
          </p:nvSpPr>
          <p:spPr>
            <a:xfrm>
              <a:off x="3726360" y="5066640"/>
              <a:ext cx="1865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</a:rPr>
                <a:t>Institucion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7"/>
            <p:cNvSpPr/>
            <p:nvPr/>
          </p:nvSpPr>
          <p:spPr>
            <a:xfrm>
              <a:off x="5969880" y="5924520"/>
              <a:ext cx="1301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</a:rPr>
                <a:t>Desarrollo Hum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9"/>
            <p:cNvSpPr/>
            <p:nvPr/>
          </p:nvSpPr>
          <p:spPr>
            <a:xfrm>
              <a:off x="4687200" y="3831480"/>
              <a:ext cx="1704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</a:rPr>
                <a:t>Competi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0"/>
            <p:cNvSpPr/>
            <p:nvPr/>
          </p:nvSpPr>
          <p:spPr>
            <a:xfrm>
              <a:off x="5197680" y="411912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</a:rPr>
                <a:t>del Paí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35"/>
          <p:cNvSpPr/>
          <p:nvPr/>
        </p:nvSpPr>
        <p:spPr>
          <a:xfrm>
            <a:off x="5454720" y="4824360"/>
            <a:ext cx="158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RR.NN. y Gestión Ambi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53 Rectángulo redondeado"/>
          <p:cNvSpPr/>
          <p:nvPr/>
        </p:nvSpPr>
        <p:spPr>
          <a:xfrm>
            <a:off x="7361280" y="3948120"/>
            <a:ext cx="2286000" cy="132084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176040" indent="-176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cursos naturales y diversidad biológ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Gestión de riesgos ambient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61 Flecha curvada hacia la derecha"/>
          <p:cNvSpPr/>
          <p:nvPr/>
        </p:nvSpPr>
        <p:spPr>
          <a:xfrm flipH="1" rot="14682000">
            <a:off x="7002000" y="3162960"/>
            <a:ext cx="581040" cy="1389240"/>
          </a:xfrm>
          <a:custGeom>
            <a:avLst/>
            <a:gdLst>
              <a:gd name="textAreaLeft" fmla="*/ 77760 w 581040"/>
              <a:gd name="textAreaRight" fmla="*/ 503280 w 581040"/>
              <a:gd name="textAreaTop" fmla="*/ 300960 h 1389240"/>
              <a:gd name="textAreaBottom" fmla="*/ 1026720 h 138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64" stAng="-5400000" swAng="-5400000"/>
                <a:lnTo>
                  <a:pt x="0" y="11279"/>
                </a:lnTo>
                <a:arcTo wR="21600" hR="9364" stAng="10800000" swAng="-3553346"/>
                <a:lnTo>
                  <a:pt x="16200" y="21303"/>
                </a:lnTo>
                <a:lnTo>
                  <a:pt x="21600" y="19686"/>
                </a:lnTo>
                <a:lnTo>
                  <a:pt x="16200" y="17474"/>
                </a:lnTo>
                <a:lnTo>
                  <a:pt x="16200" y="18431"/>
                </a:lnTo>
                <a:arcTo wR="21600" hR="9364" stAng="7246654" swAng="3400254"/>
                <a:lnTo>
                  <a:pt x="113" y="10322"/>
                </a:lnTo>
                <a:arcTo wR="21600" hR="9364" stAng="-10646907" swAng="5246907"/>
                <a:close/>
              </a:path>
              <a:path fill="darkenLess" w="21600" h="21600">
                <a:moveTo>
                  <a:pt x="21600" y="0"/>
                </a:moveTo>
                <a:arcTo wR="21600" hR="9364" stAng="-5400000" swAng="-5400000"/>
                <a:lnTo>
                  <a:pt x="0" y="9364"/>
                </a:lnTo>
                <a:arcTo wR="21600" hR="9364" stAng="10800000" swAng="-153093"/>
                <a:lnTo>
                  <a:pt x="113" y="10322"/>
                </a:lnTo>
                <a:arcTo wR="21600" hR="9364" stAng="-10646907" swAng="5246907"/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45 Conector"/>
          <p:cNvSpPr/>
          <p:nvPr/>
        </p:nvSpPr>
        <p:spPr>
          <a:xfrm>
            <a:off x="5303880" y="4405320"/>
            <a:ext cx="1905120" cy="1371600"/>
          </a:xfrm>
          <a:prstGeom prst="flowChartConnector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46 Conector recto"/>
          <p:cNvSpPr/>
          <p:nvPr/>
        </p:nvSpPr>
        <p:spPr>
          <a:xfrm flipH="1">
            <a:off x="5532480" y="5700600"/>
            <a:ext cx="25200" cy="10670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7060320" y="3033720"/>
            <a:ext cx="2320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Nuevo Eje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7437600" y="7083360"/>
            <a:ext cx="2114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F403D5BA-34D2-4483-82CA-7EC2FB7B21B6}" type="slidenum"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46080" y="1128600"/>
            <a:ext cx="4114800" cy="3657240"/>
            <a:chOff x="46080" y="1128600"/>
            <a:chExt cx="4114800" cy="3657240"/>
          </a:xfrm>
        </p:grpSpPr>
        <p:sp>
          <p:nvSpPr>
            <p:cNvPr id="230" name="AutoShape 10"/>
            <p:cNvSpPr/>
            <p:nvPr/>
          </p:nvSpPr>
          <p:spPr>
            <a:xfrm flipV="1">
              <a:off x="46080" y="3144960"/>
              <a:ext cx="4114800" cy="1404720"/>
            </a:xfrm>
            <a:prstGeom prst="pi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189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46080" y="4551480"/>
              <a:ext cx="4103280" cy="183960"/>
            </a:xfrm>
            <a:prstGeom prst="rect">
              <a:avLst/>
            </a:prstGeom>
            <a:gradFill rotWithShape="0">
              <a:gsLst>
                <a:gs pos="0">
                  <a:srgbClr val="00297a"/>
                </a:gs>
                <a:gs pos="100000">
                  <a:srgbClr val="0013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65880" y="4512960"/>
              <a:ext cx="183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3270960" y="3146760"/>
              <a:ext cx="658440" cy="9766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4"/>
            <p:cNvGrpSpPr/>
            <p:nvPr/>
          </p:nvGrpSpPr>
          <p:grpSpPr>
            <a:xfrm>
              <a:off x="164520" y="3249000"/>
              <a:ext cx="3768480" cy="1008000"/>
              <a:chOff x="164520" y="3249000"/>
              <a:chExt cx="3768480" cy="1008000"/>
            </a:xfrm>
          </p:grpSpPr>
          <p:sp>
            <p:nvSpPr>
              <p:cNvPr id="235" name="Freeform 15"/>
              <p:cNvSpPr/>
              <p:nvPr/>
            </p:nvSpPr>
            <p:spPr>
              <a:xfrm>
                <a:off x="3272040" y="3249000"/>
                <a:ext cx="121320" cy="131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6"/>
              <p:cNvSpPr/>
              <p:nvPr/>
            </p:nvSpPr>
            <p:spPr>
              <a:xfrm>
                <a:off x="1995480" y="3249000"/>
                <a:ext cx="1384920" cy="131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"/>
              <p:cNvSpPr/>
              <p:nvPr/>
            </p:nvSpPr>
            <p:spPr>
              <a:xfrm>
                <a:off x="1987920" y="3249000"/>
                <a:ext cx="114480" cy="131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8"/>
              <p:cNvSpPr/>
              <p:nvPr/>
            </p:nvSpPr>
            <p:spPr>
              <a:xfrm>
                <a:off x="1352880" y="3249000"/>
                <a:ext cx="743400" cy="131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"/>
              <p:cNvSpPr/>
              <p:nvPr/>
            </p:nvSpPr>
            <p:spPr>
              <a:xfrm>
                <a:off x="1352880" y="3249000"/>
                <a:ext cx="108000" cy="131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0"/>
              <p:cNvSpPr/>
              <p:nvPr/>
            </p:nvSpPr>
            <p:spPr>
              <a:xfrm>
                <a:off x="711360" y="3249000"/>
                <a:ext cx="749520" cy="131760"/>
              </a:xfrm>
              <a:prstGeom prst="pie">
                <a:avLst/>
              </a:prstGeom>
              <a:solidFill>
                <a:srgbClr val="445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1"/>
              <p:cNvSpPr/>
              <p:nvPr/>
            </p:nvSpPr>
            <p:spPr>
              <a:xfrm>
                <a:off x="3285000" y="3249000"/>
                <a:ext cx="648000" cy="1008000"/>
              </a:xfrm>
              <a:prstGeom prst="pie">
                <a:avLst/>
              </a:prstGeom>
              <a:solidFill>
                <a:srgbClr val="5d7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2"/>
              <p:cNvSpPr/>
              <p:nvPr/>
            </p:nvSpPr>
            <p:spPr>
              <a:xfrm>
                <a:off x="164520" y="3380760"/>
                <a:ext cx="3661560" cy="875880"/>
              </a:xfrm>
              <a:prstGeom prst="pie">
                <a:avLst/>
              </a:prstGeom>
              <a:solidFill>
                <a:srgbClr val="57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3"/>
            <p:cNvGrpSpPr/>
            <p:nvPr/>
          </p:nvGrpSpPr>
          <p:grpSpPr>
            <a:xfrm>
              <a:off x="723240" y="2332800"/>
              <a:ext cx="1373040" cy="1022760"/>
              <a:chOff x="723240" y="2332800"/>
              <a:chExt cx="1373040" cy="1022760"/>
            </a:xfrm>
          </p:grpSpPr>
          <p:sp>
            <p:nvSpPr>
              <p:cNvPr id="244" name="Freeform 24"/>
              <p:cNvSpPr/>
              <p:nvPr/>
            </p:nvSpPr>
            <p:spPr>
              <a:xfrm>
                <a:off x="1987920" y="2332800"/>
                <a:ext cx="108360" cy="1022760"/>
              </a:xfrm>
              <a:prstGeom prst="pie">
                <a:avLst/>
              </a:prstGeom>
              <a:solidFill>
                <a:srgbClr val="93a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5"/>
              <p:cNvSpPr/>
              <p:nvPr/>
            </p:nvSpPr>
            <p:spPr>
              <a:xfrm>
                <a:off x="1270080" y="2332800"/>
                <a:ext cx="826200" cy="137880"/>
              </a:xfrm>
              <a:prstGeom prst="pie">
                <a:avLst/>
              </a:prstGeom>
              <a:solidFill>
                <a:srgbClr val="637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6"/>
              <p:cNvSpPr/>
              <p:nvPr/>
            </p:nvSpPr>
            <p:spPr>
              <a:xfrm>
                <a:off x="723240" y="2470680"/>
                <a:ext cx="1264680" cy="884520"/>
              </a:xfrm>
              <a:prstGeom prst="pie">
                <a:avLst/>
              </a:prstGeom>
              <a:solidFill>
                <a:srgbClr val="809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27"/>
            <p:cNvGrpSpPr/>
            <p:nvPr/>
          </p:nvGrpSpPr>
          <p:grpSpPr>
            <a:xfrm>
              <a:off x="2008440" y="2332800"/>
              <a:ext cx="1371960" cy="1022760"/>
              <a:chOff x="2008440" y="2332800"/>
              <a:chExt cx="1371960" cy="1022760"/>
            </a:xfrm>
          </p:grpSpPr>
          <p:sp>
            <p:nvSpPr>
              <p:cNvPr id="248" name="Freeform 28"/>
              <p:cNvSpPr/>
              <p:nvPr/>
            </p:nvSpPr>
            <p:spPr>
              <a:xfrm>
                <a:off x="2732040" y="2332800"/>
                <a:ext cx="648360" cy="1022760"/>
              </a:xfrm>
              <a:prstGeom prst="pie">
                <a:avLst/>
              </a:prstGeom>
              <a:solidFill>
                <a:srgbClr val="899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9"/>
              <p:cNvSpPr/>
              <p:nvPr/>
            </p:nvSpPr>
            <p:spPr>
              <a:xfrm>
                <a:off x="2008440" y="2332800"/>
                <a:ext cx="832320" cy="137880"/>
              </a:xfrm>
              <a:prstGeom prst="pie">
                <a:avLst/>
              </a:prstGeom>
              <a:solidFill>
                <a:srgbClr val="637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0"/>
              <p:cNvSpPr/>
              <p:nvPr/>
            </p:nvSpPr>
            <p:spPr>
              <a:xfrm>
                <a:off x="2008440" y="2470680"/>
                <a:ext cx="1263600" cy="884520"/>
              </a:xfrm>
              <a:prstGeom prst="pie">
                <a:avLst/>
              </a:prstGeom>
              <a:solidFill>
                <a:srgbClr val="809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1"/>
            <p:cNvGrpSpPr/>
            <p:nvPr/>
          </p:nvGrpSpPr>
          <p:grpSpPr>
            <a:xfrm>
              <a:off x="1283400" y="1128600"/>
              <a:ext cx="1550160" cy="1318680"/>
              <a:chOff x="1283400" y="1128600"/>
              <a:chExt cx="1550160" cy="1318680"/>
            </a:xfrm>
          </p:grpSpPr>
          <p:sp>
            <p:nvSpPr>
              <p:cNvPr id="252" name="Freeform 32"/>
              <p:cNvSpPr/>
              <p:nvPr/>
            </p:nvSpPr>
            <p:spPr>
              <a:xfrm>
                <a:off x="2000880" y="1128600"/>
                <a:ext cx="108360" cy="139320"/>
              </a:xfrm>
              <a:prstGeom prst="pie">
                <a:avLst/>
              </a:prstGeom>
              <a:solidFill>
                <a:srgbClr val="a8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3"/>
              <p:cNvSpPr/>
              <p:nvPr/>
            </p:nvSpPr>
            <p:spPr>
              <a:xfrm>
                <a:off x="2008440" y="1128600"/>
                <a:ext cx="825120" cy="1318680"/>
              </a:xfrm>
              <a:prstGeom prst="pie">
                <a:avLst/>
              </a:prstGeom>
              <a:solidFill>
                <a:srgbClr val="b4b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4"/>
              <p:cNvSpPr/>
              <p:nvPr/>
            </p:nvSpPr>
            <p:spPr>
              <a:xfrm>
                <a:off x="1283400" y="1267920"/>
                <a:ext cx="1442520" cy="1179000"/>
              </a:xfrm>
              <a:prstGeom prst="pie">
                <a:avLst/>
              </a:prstGeom>
              <a:solidFill>
                <a:srgbClr val="a9b0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35"/>
            <p:cNvSpPr/>
            <p:nvPr/>
          </p:nvSpPr>
          <p:spPr>
            <a:xfrm>
              <a:off x="1166040" y="3732840"/>
              <a:ext cx="171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dce5f6"/>
                  </a:solidFill>
                  <a:latin typeface="Arial"/>
                </a:rPr>
                <a:t>Seguridad hum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862200" y="3060360"/>
              <a:ext cx="140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254a93"/>
                  </a:solidFill>
                  <a:latin typeface="Trebuchet MS"/>
                </a:rPr>
                <a:t>Institucion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185200" y="2750040"/>
              <a:ext cx="87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254a93"/>
                  </a:solidFill>
                  <a:latin typeface="Trebuchet MS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>
              <a:off x="2273760" y="2922480"/>
              <a:ext cx="69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254a93"/>
                  </a:solidFill>
                  <a:latin typeface="Arial"/>
                </a:rPr>
                <a:t>hum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>
              <a:off x="1501200" y="1963080"/>
              <a:ext cx="127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1a3468"/>
                  </a:solidFill>
                  <a:latin typeface="Trebuchet MS"/>
                </a:rPr>
                <a:t>Competitiv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>
              <a:off x="1672560" y="213552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1a3468"/>
                  </a:solidFill>
                  <a:latin typeface="Trebuchet MS"/>
                </a:rPr>
                <a:t>sosten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AutoShape 71"/>
          <p:cNvSpPr/>
          <p:nvPr/>
        </p:nvSpPr>
        <p:spPr>
          <a:xfrm rot="20370000">
            <a:off x="1494000" y="4786200"/>
            <a:ext cx="457200" cy="144792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ff33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5"/>
          <p:cNvSpPr/>
          <p:nvPr/>
        </p:nvSpPr>
        <p:spPr>
          <a:xfrm>
            <a:off x="2714760" y="1509840"/>
            <a:ext cx="3455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4  E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12  Objetivos Estraté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86  Objetivos Específ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6"/>
          <p:cNvSpPr/>
          <p:nvPr/>
        </p:nvSpPr>
        <p:spPr>
          <a:xfrm>
            <a:off x="2941560" y="158580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5"/>
          <p:cNvSpPr/>
          <p:nvPr/>
        </p:nvSpPr>
        <p:spPr>
          <a:xfrm>
            <a:off x="6758640" y="1738440"/>
            <a:ext cx="362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5    E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13  Objetivos Estraté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78  Objetivos Específicos</a:t>
            </a:r>
            <a:r>
              <a:rPr b="1" lang="es-E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6"/>
          <p:cNvSpPr/>
          <p:nvPr/>
        </p:nvSpPr>
        <p:spPr>
          <a:xfrm>
            <a:off x="6980400" y="181440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7"/>
          <p:cNvSpPr/>
          <p:nvPr/>
        </p:nvSpPr>
        <p:spPr>
          <a:xfrm>
            <a:off x="5837400" y="211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7040" y="1204920"/>
            <a:ext cx="1287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 Vigen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74760" y="1165320"/>
            <a:ext cx="1706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 En proces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1"/>
          <p:cNvSpPr/>
          <p:nvPr/>
        </p:nvSpPr>
        <p:spPr>
          <a:xfrm>
            <a:off x="960480" y="6157800"/>
            <a:ext cx="90676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5"/>
          <p:cNvSpPr/>
          <p:nvPr/>
        </p:nvSpPr>
        <p:spPr>
          <a:xfrm>
            <a:off x="7209000" y="2881440"/>
            <a:ext cx="0" cy="3581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4"/>
          <p:cNvSpPr/>
          <p:nvPr/>
        </p:nvSpPr>
        <p:spPr>
          <a:xfrm>
            <a:off x="4541760" y="2881440"/>
            <a:ext cx="0" cy="3581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3"/>
          <p:cNvSpPr/>
          <p:nvPr/>
        </p:nvSpPr>
        <p:spPr>
          <a:xfrm>
            <a:off x="1951200" y="2881440"/>
            <a:ext cx="0" cy="3581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2"/>
          <p:cNvSpPr/>
          <p:nvPr/>
        </p:nvSpPr>
        <p:spPr>
          <a:xfrm>
            <a:off x="960480" y="3186000"/>
            <a:ext cx="2209680" cy="533520"/>
          </a:xfrm>
          <a:prstGeom prst="flowChartDocument">
            <a:avLst/>
          </a:prstGeom>
          <a:gradFill rotWithShape="0">
            <a:gsLst>
              <a:gs pos="0">
                <a:srgbClr val="ffb793"/>
              </a:gs>
              <a:gs pos="100000">
                <a:srgbClr val="76554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(5) Eje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3"/>
          <p:cNvSpPr/>
          <p:nvPr/>
        </p:nvSpPr>
        <p:spPr>
          <a:xfrm>
            <a:off x="1112760" y="4710240"/>
            <a:ext cx="1828800" cy="533160"/>
          </a:xfrm>
          <a:prstGeom prst="flowChartDocument">
            <a:avLst/>
          </a:prstGeom>
          <a:gradFill rotWithShape="0">
            <a:gsLst>
              <a:gs pos="0">
                <a:srgbClr val="ffb793"/>
              </a:gs>
              <a:gs pos="100000">
                <a:srgbClr val="76554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(13) Obje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4"/>
          <p:cNvSpPr/>
          <p:nvPr/>
        </p:nvSpPr>
        <p:spPr>
          <a:xfrm>
            <a:off x="1112760" y="6386400"/>
            <a:ext cx="1600200" cy="685800"/>
          </a:xfrm>
          <a:prstGeom prst="flowChartDocument">
            <a:avLst/>
          </a:prstGeom>
          <a:gradFill rotWithShape="0">
            <a:gsLst>
              <a:gs pos="0">
                <a:srgbClr val="ffb793"/>
              </a:gs>
              <a:gs pos="100000">
                <a:srgbClr val="76554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(78) 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Específ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3551400" y="3186000"/>
            <a:ext cx="2286000" cy="533520"/>
          </a:xfrm>
          <a:prstGeom prst="flowChartDocument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(4)Gran Objetivo   (Ej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780000" y="4633920"/>
            <a:ext cx="1600200" cy="609480"/>
          </a:xfrm>
          <a:prstGeom prst="flowChartDocument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(32) Polític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3855960" y="5396040"/>
            <a:ext cx="1600200" cy="685800"/>
          </a:xfrm>
          <a:prstGeom prst="flowChartDocument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027160" y="128520"/>
            <a:ext cx="7848720" cy="77904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Articulación de Objetivos de la CINR  (PNC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 algn="ctr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con los Objetivos Nacionales (A.N. y CEPL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2011320" y="11685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6141960" y="3186000"/>
            <a:ext cx="2362320" cy="533520"/>
          </a:xfrm>
          <a:prstGeom prst="flowChartDocumen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(6) Eje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1"/>
          <p:cNvSpPr/>
          <p:nvPr/>
        </p:nvSpPr>
        <p:spPr>
          <a:xfrm>
            <a:off x="6370560" y="3871800"/>
            <a:ext cx="1905120" cy="533520"/>
          </a:xfrm>
          <a:prstGeom prst="flowChartDocumen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Objetivo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6370560" y="4633920"/>
            <a:ext cx="1905120" cy="609480"/>
          </a:xfrm>
          <a:prstGeom prst="flowChartDocumen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(149) Linea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de Polít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4"/>
          <p:cNvSpPr/>
          <p:nvPr/>
        </p:nvSpPr>
        <p:spPr>
          <a:xfrm>
            <a:off x="6370560" y="5548320"/>
            <a:ext cx="1600200" cy="457200"/>
          </a:xfrm>
          <a:prstGeom prst="flowChartDocumen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Prior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6"/>
          <p:cNvSpPr/>
          <p:nvPr/>
        </p:nvSpPr>
        <p:spPr>
          <a:xfrm>
            <a:off x="3855960" y="6386400"/>
            <a:ext cx="1600200" cy="685800"/>
          </a:xfrm>
          <a:prstGeom prst="flowChartDocument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Polític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7"/>
          <p:cNvSpPr/>
          <p:nvPr/>
        </p:nvSpPr>
        <p:spPr>
          <a:xfrm>
            <a:off x="808200" y="1662120"/>
            <a:ext cx="2895480" cy="1219320"/>
          </a:xfrm>
          <a:prstGeom prst="parallelogram">
            <a:avLst>
              <a:gd name="adj" fmla="val 59367"/>
            </a:avLst>
          </a:prstGeom>
          <a:gradFill rotWithShape="0">
            <a:gsLst>
              <a:gs pos="0">
                <a:srgbClr val="ffb793"/>
              </a:gs>
              <a:gs pos="100000">
                <a:srgbClr val="76554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AP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(PNC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1"/>
          <p:cNvSpPr/>
          <p:nvPr/>
        </p:nvSpPr>
        <p:spPr>
          <a:xfrm>
            <a:off x="6141960" y="1662120"/>
            <a:ext cx="2743200" cy="1219320"/>
          </a:xfrm>
          <a:prstGeom prst="parallelogram">
            <a:avLst>
              <a:gd name="adj" fmla="val 56244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CE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(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Bicente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2"/>
          <p:cNvSpPr/>
          <p:nvPr/>
        </p:nvSpPr>
        <p:spPr>
          <a:xfrm>
            <a:off x="3475080" y="1662120"/>
            <a:ext cx="2819520" cy="1219320"/>
          </a:xfrm>
          <a:prstGeom prst="parallelogram">
            <a:avLst>
              <a:gd name="adj" fmla="val 57809"/>
            </a:avLst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Acuer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(Polít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9"/>
          <p:cNvSpPr/>
          <p:nvPr/>
        </p:nvSpPr>
        <p:spPr>
          <a:xfrm>
            <a:off x="731880" y="3110040"/>
            <a:ext cx="8077320" cy="6858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0"/>
          <p:cNvSpPr/>
          <p:nvPr/>
        </p:nvSpPr>
        <p:spPr>
          <a:xfrm>
            <a:off x="8352000" y="6767640"/>
            <a:ext cx="1523880" cy="457200"/>
          </a:xfrm>
          <a:prstGeom prst="flowChartDocumen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Arial"/>
              </a:rPr>
              <a:t>Ac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Arial"/>
              </a:rPr>
              <a:t>Estratég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3"/>
          <p:cNvSpPr/>
          <p:nvPr/>
        </p:nvSpPr>
        <p:spPr>
          <a:xfrm>
            <a:off x="8352000" y="6234120"/>
            <a:ext cx="1523880" cy="457200"/>
          </a:xfrm>
          <a:prstGeom prst="flowChartDocumen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Arial"/>
              </a:rPr>
              <a:t>Indicadore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Arial"/>
              </a:rPr>
              <a:t>me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5"/>
          <p:cNvSpPr/>
          <p:nvPr/>
        </p:nvSpPr>
        <p:spPr>
          <a:xfrm>
            <a:off x="6446880" y="6462720"/>
            <a:ext cx="1676520" cy="685800"/>
          </a:xfrm>
          <a:prstGeom prst="flowChartDocumen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(31) Objetiv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Específicos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884160" y="4557600"/>
            <a:ext cx="7848720" cy="7621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7818480" y="7335720"/>
            <a:ext cx="2114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22B3356D-7FEE-4017-998D-ED9EC091BB26}" type="slidenum"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74680" y="2197080"/>
          <a:ext cx="9601200" cy="5256000"/>
        </p:xfrm>
        <a:graphic>
          <a:graphicData uri="http://schemas.openxmlformats.org/drawingml/2006/table">
            <a:tbl>
              <a:tblPr/>
              <a:tblGrid>
                <a:gridCol w="2419200"/>
                <a:gridCol w="3372120"/>
                <a:gridCol w="3809880"/>
              </a:tblGrid>
              <a:tr h="160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1: SEGURIDAD HUM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1 (Democracia y Estado de Derecho)                                              Eje 2 (Equidad y Justicia Social)                                                     Eje 3 (Competitividad del Paí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1 (Derechos Fundamentales y Dignidad de las Personas);                                                                                Eje 2 (Oportunidades y Acceso a los Servicios Básicos);                                                                          Eje 3(Estado Democrático y Descentralizado) ;                                                                      Eje 5(Desarrollo Regional e Infraestructura);                                                    Eje 6(Recursos Naturales y Ambient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2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1: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DESARROLLAR UNA RED DE PROTECCIÓN SOCIAL QUE RESGUARDE EL CAPITAL HUMANO EN SITUACIÓN DE RIES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2/P 10 (Reducción de la pobreza);                                         P11 (Promoción de la igualdad de oportunidades sin discriminación); P14 (Acceso al empleo pleno, digno y productiv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1/L: Democratización 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;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2/ L.Seguridad Alimentaria ;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.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Servicios Básicos y Vivienda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. 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 5/ L 4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: Revertir las condiciones de exclusión y escaso acceso a los servicios básicos de la población ru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2: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  DESARROLLAR UNA INFRAESTRUCTURA Y VIVIENDA ADECUADA Y SEGURA, ASÍ COMO GARANTIZAR EL ACCESO UNIVERSAL A LOS SERVICIOS DE AGUA POTABLE, SANEAMIENTO Y COMUNICACION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2 / P10 (Reducción de la pobreza)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3 / P19 (Desarrollo sostenible y gest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mbiental);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20 (Desarrollo de la ciencia y la tecnología);                               P21 (Desarrollo en infraestructura y viviend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1/ L.Promoción de la equidad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(L3:Asegurar el acceso de las personas en situación de pobreza y pobreza extrema a los medios que les permitan lograr su propio desarrollo...) /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2/L. Servicios básicos y vivienda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 5 / L.7: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mpulsar la conformación de un sistema de ciudades intermedias con capacidades de retención de la oblación, asegurando la provisión adecuada de los servicios básicos. //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 6/L.Recursos Naturales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3: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   PROMOVER LA IGUALDAD DE OPORTUNIDADES SIN DISCRIMINA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2/ P11(Promoción de la igualdad de oportunidades sin discriminación); P16   (Fortalecimiento de la familia, protección y promoción de la niñez, la adolescencia y la juventu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1/ L.Promoción de la equidad;  L8: Establecer redes de protección a niños, adolescentes, adultos mayores , mujeres jefas de hogar, discapacitados y demás población vulner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96" name="Text Box 27"/>
          <p:cNvSpPr/>
          <p:nvPr/>
        </p:nvSpPr>
        <p:spPr>
          <a:xfrm>
            <a:off x="1874880" y="290520"/>
            <a:ext cx="7848720" cy="70452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Matriz de correspondencia entre los Objetivos de la PNCTI - Acuerdo Nacional -  Plan Bicentenar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7"/>
          <p:cNvSpPr/>
          <p:nvPr/>
        </p:nvSpPr>
        <p:spPr>
          <a:xfrm>
            <a:off x="1189080" y="1357200"/>
            <a:ext cx="2133720" cy="685800"/>
          </a:xfrm>
          <a:prstGeom prst="parallelogram">
            <a:avLst>
              <a:gd name="adj" fmla="val 59431"/>
            </a:avLst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olítica Nacional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de Cooperación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1"/>
          <p:cNvSpPr/>
          <p:nvPr/>
        </p:nvSpPr>
        <p:spPr>
          <a:xfrm>
            <a:off x="7284960" y="1357200"/>
            <a:ext cx="2300400" cy="685800"/>
          </a:xfrm>
          <a:prstGeom prst="parallelogram">
            <a:avLst>
              <a:gd name="adj" fmla="val 56309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lan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Bicente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2"/>
          <p:cNvSpPr/>
          <p:nvPr/>
        </p:nvSpPr>
        <p:spPr>
          <a:xfrm>
            <a:off x="3932280" y="1357200"/>
            <a:ext cx="2522520" cy="685800"/>
          </a:xfrm>
          <a:prstGeom prst="parallelogram">
            <a:avLst>
              <a:gd name="adj" fmla="val 57864"/>
            </a:avLst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Políticas de </a:t>
            </a:r>
            <a:br>
              <a:rPr sz="1000"/>
            </a:b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28 Imagen" descr="APCI-LOGO.JPG"/>
          <p:cNvPicPr/>
          <p:nvPr/>
        </p:nvPicPr>
        <p:blipFill>
          <a:blip r:embed="rId2"/>
          <a:srcRect l="6360" t="12868" r="5261" b="19885"/>
          <a:stretch/>
        </p:blipFill>
        <p:spPr>
          <a:xfrm>
            <a:off x="522360" y="1509840"/>
            <a:ext cx="1279440" cy="452160"/>
          </a:xfrm>
          <a:prstGeom prst="rect">
            <a:avLst/>
          </a:prstGeom>
          <a:ln w="0">
            <a:noFill/>
          </a:ln>
        </p:spPr>
      </p:pic>
      <p:pic>
        <p:nvPicPr>
          <p:cNvPr id="301" name="29 Imagen" descr="acuerdo Nacional.gif"/>
          <p:cNvPicPr/>
          <p:nvPr/>
        </p:nvPicPr>
        <p:blipFill>
          <a:blip r:embed="rId3"/>
          <a:srcRect l="0" t="19539" r="0" b="27972"/>
          <a:stretch/>
        </p:blipFill>
        <p:spPr>
          <a:xfrm>
            <a:off x="3398760" y="1547640"/>
            <a:ext cx="1238400" cy="409680"/>
          </a:xfrm>
          <a:prstGeom prst="rect">
            <a:avLst/>
          </a:prstGeom>
          <a:ln w="0">
            <a:noFill/>
          </a:ln>
        </p:spPr>
      </p:pic>
      <p:pic>
        <p:nvPicPr>
          <p:cNvPr id="302" name="30 Imagen" descr="logoceplan.JPG"/>
          <p:cNvPicPr/>
          <p:nvPr/>
        </p:nvPicPr>
        <p:blipFill>
          <a:blip r:embed="rId4"/>
          <a:srcRect l="0" t="0" r="2707" b="0"/>
          <a:stretch/>
        </p:blipFill>
        <p:spPr>
          <a:xfrm>
            <a:off x="6675480" y="1509840"/>
            <a:ext cx="9144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79280" y="1979640"/>
          <a:ext cx="9971280" cy="5549760"/>
        </p:xfrm>
        <a:graphic>
          <a:graphicData uri="http://schemas.openxmlformats.org/drawingml/2006/table">
            <a:tbl>
              <a:tblPr/>
              <a:tblGrid>
                <a:gridCol w="2132280"/>
                <a:gridCol w="4568400"/>
                <a:gridCol w="3055320"/>
                <a:gridCol w="216000"/>
              </a:tblGrid>
              <a:tr h="17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2: INSTITUCIONAL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1 (Democracia y Estado de Derecho);                                                 Eje 2 (Equidad y Justicia Social);                                                                        Eje 3(Competitividad del país);                                                                 Eje 4 (Estado Eficiente, Transparente y Descentraliza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1 (Derechos Fundamentales 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ignidad de las Personas);                                                                           Eje2 (Oportunidades y Acceso a l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rvicios Básicos);                                                                                    Eje 3 (Estado Democrático 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scentralizado) ; Eje5(Desarroll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gional e Infraestructura)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6(Recursos Naturales y Ambient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4: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                           CONTRIBUIR A LOGRAR  UN ESTADO DEMOCRÁTICO, TRANSPARENTE Y EFICIENTE QUE PROMUEVA LA GOBERNABILIDA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1/ P3 (Democracia y Estado de Derecho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4/ P24(Afirmación de un Estado Eficiente y Transparente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26 (Promoción de la ética y la transparencia y erradicación de la corrupción, el lavado de dinero, la evasión tributaria y la contrabando en todas sus formas);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29 ( Estado Eficiente, Transparente y Descentralizado</a:t>
                      </a:r>
                      <a:br>
                        <a:rPr sz="1100"/>
                      </a:b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cceso a la Información, Libertad de Expresión y Libertad de Prens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3 /L.Reforma del Estad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.Gobenabili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5: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ARANTIZAR EL ACCESO UNIVERSAL A LA JUSTICIA Y FORTALECER  LA PAZ</a:t>
                      </a: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1/ P1 (Fortalecimiento del Régimen Democrático y del Estado de Derecho); P6(Política exterior para la paz, la democracia, el desarrollo y la integración); P7(Erradicación de la violencia y fortalecimiento del civismo y de la seguridad ciudadana);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4/ P28 (Plena vigencia de la Constitución y de los Derechos Humanos y acceso a la Justicia e Independencia Judici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1/ L.Derechos Humanos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L.3: Erradicar las formas de trabajo infantil y adolescente que ponen en riesgo la salud y la educación de niños y jóvenes) //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2/ L.Seguri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; L4: Promover un sistema nacional de seguridad ciudadana) /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Eje3/L.Gobernabili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.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OBJETIVO ESTRATÉGICO 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:                                                 APOYAR EL PROCESO DE DESCENTRALIZACIÓN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1/ P6(Política exterior para la paz, la democracia, el desarrollo y la integración), P8 (Descentralización política, económica y administrativa para propiciar el desarrollo integral, armónico y sostenido del Perú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 4/ P21(Desarrollo en infraestructura y vivienda), P24 (Afirmación de un Estado eficiente y transparent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je3/</a:t>
                      </a: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 L.Gobernabili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L.Relacion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Text Box 27"/>
          <p:cNvSpPr/>
          <p:nvPr/>
        </p:nvSpPr>
        <p:spPr>
          <a:xfrm>
            <a:off x="1874880" y="290520"/>
            <a:ext cx="7848720" cy="70452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01760" indent="-40176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Matriz de correspondencia entre los Objetivos de la PNCTI - Acuerdo Nacional -  Plan Bicentenar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34 Grupo"/>
          <p:cNvGrpSpPr/>
          <p:nvPr/>
        </p:nvGrpSpPr>
        <p:grpSpPr>
          <a:xfrm>
            <a:off x="522360" y="1128600"/>
            <a:ext cx="9063000" cy="798840"/>
            <a:chOff x="522360" y="1128600"/>
            <a:chExt cx="9063000" cy="798840"/>
          </a:xfrm>
        </p:grpSpPr>
        <p:sp>
          <p:nvSpPr>
            <p:cNvPr id="306" name="Rectangle 7"/>
            <p:cNvSpPr/>
            <p:nvPr/>
          </p:nvSpPr>
          <p:spPr>
            <a:xfrm>
              <a:off x="938160" y="1927080"/>
              <a:ext cx="1873080" cy="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373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47"/>
            <p:cNvSpPr/>
            <p:nvPr/>
          </p:nvSpPr>
          <p:spPr>
            <a:xfrm>
              <a:off x="1189080" y="1128600"/>
              <a:ext cx="2133360" cy="685800"/>
            </a:xfrm>
            <a:prstGeom prst="parallelogram">
              <a:avLst>
                <a:gd name="adj" fmla="val 59421"/>
              </a:avLst>
            </a:prstGeom>
            <a:solidFill>
              <a:srgbClr val="ffad5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Política Nacional </a:t>
              </a:r>
              <a:br>
                <a:rPr sz="1000"/>
              </a:b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de Cooperación </a:t>
              </a:r>
              <a:br>
                <a:rPr sz="1000"/>
              </a:b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Intern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51"/>
            <p:cNvSpPr/>
            <p:nvPr/>
          </p:nvSpPr>
          <p:spPr>
            <a:xfrm>
              <a:off x="7285320" y="1128600"/>
              <a:ext cx="2300040" cy="685800"/>
            </a:xfrm>
            <a:prstGeom prst="parallelogram">
              <a:avLst>
                <a:gd name="adj" fmla="val 563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Plan</a:t>
              </a:r>
              <a:br>
                <a:rPr sz="1000"/>
              </a:b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Bicentena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52"/>
            <p:cNvSpPr/>
            <p:nvPr/>
          </p:nvSpPr>
          <p:spPr>
            <a:xfrm>
              <a:off x="3932280" y="1128600"/>
              <a:ext cx="2522520" cy="685800"/>
            </a:xfrm>
            <a:prstGeom prst="parallelogram">
              <a:avLst>
                <a:gd name="adj" fmla="val 57864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Políticas de </a:t>
              </a:r>
              <a:br>
                <a:rPr sz="1000"/>
              </a:br>
              <a:r>
                <a:rPr b="1" lang="es-ES" sz="1000" spc="-1" strike="noStrike">
                  <a:solidFill>
                    <a:srgbClr val="000066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39 Imagen" descr="APCI-LOGO.JPG"/>
            <p:cNvPicPr/>
            <p:nvPr/>
          </p:nvPicPr>
          <p:blipFill>
            <a:blip r:embed="rId2"/>
            <a:srcRect l="6360" t="12868" r="5261" b="19885"/>
            <a:stretch/>
          </p:blipFill>
          <p:spPr>
            <a:xfrm>
              <a:off x="522360" y="1280880"/>
              <a:ext cx="1279440" cy="45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40 Imagen" descr="acuerdo Nacional.gif"/>
            <p:cNvPicPr/>
            <p:nvPr/>
          </p:nvPicPr>
          <p:blipFill>
            <a:blip r:embed="rId3"/>
            <a:srcRect l="0" t="19539" r="0" b="27972"/>
            <a:stretch/>
          </p:blipFill>
          <p:spPr>
            <a:xfrm>
              <a:off x="3398760" y="1318680"/>
              <a:ext cx="1238040" cy="4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41 Imagen" descr="logoceplan.JPG"/>
            <p:cNvPicPr/>
            <p:nvPr/>
          </p:nvPicPr>
          <p:blipFill>
            <a:blip r:embed="rId4"/>
            <a:srcRect l="0" t="0" r="2707" b="0"/>
            <a:stretch/>
          </p:blipFill>
          <p:spPr>
            <a:xfrm>
              <a:off x="6675480" y="1280880"/>
              <a:ext cx="914400" cy="45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5:37:59Z</dcterms:created>
  <dc:creator>wb268020</dc:creator>
  <dc:description/>
  <cp:keywords/>
  <dc:language>en-US</dc:language>
  <cp:lastModifiedBy>rarauco</cp:lastModifiedBy>
  <dcterms:modified xsi:type="dcterms:W3CDTF">2011-01-20T23:40:02Z</dcterms:modified>
  <cp:revision>1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11033</vt:lpwstr>
  </property>
</Properties>
</file>