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152063" cy="758825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784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75B0-6F34-4BB1-9D17-CDF16CE89F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1FC-17C3-41EA-83B3-1DCD654017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700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E816218-4186-4F5D-BF86-4475777B2AF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D0A-F1DB-4245-8B2F-364A482006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784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ocumento participativo, responde a un compromiso nacional y con el Principio de Apropiación, que indica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“Ejercer su liderazgo desarrollando e implementando sus propias estrategias de desarrollo nacional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dio de amplios procesos consultivo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lta Oficial ante el Sector Público: se remitieron aproximadamente 40 oficios solicitando opiniones y recomendaciones ante los Ministerios, Organismos Constitucionalmente y otras instituciones rectoras en temas de carácter estratég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e el CCM se presentó la sistematización de la consulta antes efectuada, acordando otro esfuerzo por priorizar los Objetivos Específicos plante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rimer Taller con el Sector Público, realizado en el marco de la definición de los Objetivos Nacionales para el  Marco de Asistencia de las Naciones Unidas para el Desarrollo (MANUD o UNDAF en sus siglas en inglés), sirvió para realizar una nueva revisión y priorización de los Objetivos Específicos para la CINR, base para la revisión que viene realizando la APCI. Actualmente se han definido los 10 primeros Objetivos Estratégicos, restando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222-285A-46A9-AA30-F55F850EF4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70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61F74F4-B55B-403E-8077-C30DFA72DEE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8"/>
          <p:cNvSpPr/>
          <p:nvPr/>
        </p:nvSpPr>
        <p:spPr>
          <a:xfrm>
            <a:off x="5897520" y="680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n 3" descr="http://www.apci.gob.pe/imagenes/logo.jpg"/>
          <p:cNvPicPr/>
          <p:nvPr/>
        </p:nvPicPr>
        <p:blipFill>
          <a:blip r:embed="rId3"/>
          <a:stretch/>
        </p:blipFill>
        <p:spPr>
          <a:xfrm>
            <a:off x="2577960" y="6691320"/>
            <a:ext cx="7572600" cy="898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google.com/imgres?imgurl=http://1.bp.blogspot.com/_ziA7BNHV1S8/TA2LD1z24iI/AAAAAAAABwI/gJQo-h4O1e4/s1600/bandera-peru%255B1%255D.jpg&amp;imgrefurl=http://luisenrique17.blogspot.com/2010/06/poesias-la-bandera-del-peru.html&amp;h=298&amp;w=413&amp;sz=25&amp;tbnid=V0rn9Zk3MoEaCM:&amp;tbnh=90&amp;tbnw=125&amp;prev=/images%3Fq%3Dbandera%2Bperu&amp;zoom=1&amp;q=bandera+peru&amp;hl=es&amp;usg=__adl0gLyBOdAtSfmpz7k9AKBjZUk=&amp;sa=X&amp;ei=nSIlTcGeJoP_8AbesYXwAQ&amp;ved=0CB4Q9QEwAQ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341360" y="3567240"/>
            <a:ext cx="747396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riorización Estratégica</a:t>
            </a:r>
            <a:r>
              <a:rPr b="0" lang="es-PE" sz="2800" spc="-1" strike="noStrike">
                <a:solidFill>
                  <a:srgbClr val="002060"/>
                </a:solidFill>
                <a:latin typeface="Impact"/>
              </a:rPr>
              <a:t> Conju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2060"/>
                </a:solidFill>
                <a:latin typeface="Impact"/>
              </a:rPr>
              <a:t>( SNU – APC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UNDAF 2012 -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692360" y="4954680"/>
            <a:ext cx="7915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8775720" y="6935760"/>
            <a:ext cx="9936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n 3" descr="http://www.apci.gob.pe/imagenes/logo.jpg"/>
          <p:cNvPicPr/>
          <p:nvPr/>
        </p:nvPicPr>
        <p:blipFill>
          <a:blip r:embed="rId2"/>
          <a:srcRect l="0" t="0" r="19443" b="15358"/>
          <a:stretch/>
        </p:blipFill>
        <p:spPr>
          <a:xfrm>
            <a:off x="2255760" y="61920"/>
            <a:ext cx="6248520" cy="824040"/>
          </a:xfrm>
          <a:prstGeom prst="rect">
            <a:avLst/>
          </a:prstGeom>
          <a:ln w="0">
            <a:noFill/>
          </a:ln>
        </p:spPr>
      </p:pic>
      <p:pic>
        <p:nvPicPr>
          <p:cNvPr id="89" name="16 Imagen" descr="NNUU.jpg"/>
          <p:cNvPicPr/>
          <p:nvPr/>
        </p:nvPicPr>
        <p:blipFill>
          <a:blip r:embed="rId3"/>
          <a:stretch/>
        </p:blipFill>
        <p:spPr>
          <a:xfrm>
            <a:off x="3170160" y="1585800"/>
            <a:ext cx="1311480" cy="130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bandera-peru%25255B1%252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27560" y="1890720"/>
            <a:ext cx="1238400" cy="89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7058520" y="65390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20 de Enero d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808200" y="3110040"/>
            <a:ext cx="9072360" cy="838080"/>
          </a:xfrm>
          <a:prstGeom prst="roundRect">
            <a:avLst>
              <a:gd name="adj" fmla="val 491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1.- Matriz de correspondencia entre los Objetivos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NCTI  y Temas de interés del S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08200" y="4557600"/>
            <a:ext cx="8991360" cy="914400"/>
          </a:xfrm>
          <a:prstGeom prst="roundRect">
            <a:avLst>
              <a:gd name="adj" fmla="val 491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2.- Áreas prioritarias conjuntas del UNDAF 2012 -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130800" y="489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http://www.apci.gob.pe/imagenes/logo.jpg"/>
          <p:cNvPicPr/>
          <p:nvPr/>
        </p:nvPicPr>
        <p:blipFill>
          <a:blip r:embed="rId2"/>
          <a:srcRect l="0" t="0" r="25537" b="16775"/>
          <a:stretch/>
        </p:blipFill>
        <p:spPr>
          <a:xfrm>
            <a:off x="1951200" y="76320"/>
            <a:ext cx="5638680" cy="747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1193400" y="169056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I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7"/>
          <p:cNvSpPr/>
          <p:nvPr/>
        </p:nvSpPr>
        <p:spPr>
          <a:xfrm>
            <a:off x="6980400" y="1357200"/>
            <a:ext cx="1752480" cy="533520"/>
          </a:xfrm>
          <a:prstGeom prst="parallelogram">
            <a:avLst>
              <a:gd name="adj" fmla="val 62745"/>
            </a:avLst>
          </a:prstGeom>
          <a:solidFill>
            <a:srgbClr val="5bbd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Temas 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Inter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26960" y="2119320"/>
          <a:ext cx="9067680" cy="2084400"/>
        </p:xfrm>
        <a:graphic>
          <a:graphicData uri="http://schemas.openxmlformats.org/drawingml/2006/table">
            <a:tbl>
              <a:tblPr/>
              <a:tblGrid>
                <a:gridCol w="5486400"/>
                <a:gridCol w="3581280"/>
              </a:tblGrid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: SEGURIDAD HUM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as de interés de S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: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ARROLLAR UNA RED DE PROTECCIÓN SOCIAL QUE RESGUARDE EL CAPITAL HUMANO EN SITUACIÓN DE RIESG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Derechos Humanos  (marco juríd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2: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ARROLLAR UNA INFRAESTRUCTURA Y VIVIENDA ADECUADA Y SEGURA, ASÍ COMO GARANTIZAR EL ACCESO UNIVERSAL A LOS SERVICIOS DE AGUA POTABLE, SANEAMIENTO Y COMUNICACION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3: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MOVER LA IGUALDAD DE OPORTUNIDADES SIN DISCRIMINACIÓ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Mujeres víctimas de violenci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Adulto mayor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Explotación laboral y sexual del niño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Madres adolesc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26960" y="4405320"/>
          <a:ext cx="9144000" cy="2673360"/>
        </p:xfrm>
        <a:graphic>
          <a:graphicData uri="http://schemas.openxmlformats.org/drawingml/2006/table">
            <a:tbl>
              <a:tblPr/>
              <a:tblGrid>
                <a:gridCol w="5486400"/>
                <a:gridCol w="3657600"/>
              </a:tblGrid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: INSTITUCIONA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as de interés de S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4: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TRIBUIR A LOGRAR  UN ESTADO DEMOCRÁTICO, TRANSPARENTE Y EFICIENTE QUE PROMUEVA LA GOBERNABILIDA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Corru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5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ARANTIZAR EL ACCESO UNIVERSAL A LA JUSTICIA Y FORTALECER  LA PAZ</a:t>
                      </a: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Niños y adolescentes en conflictos con la ley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Conflictividad social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Justicia (enfoque cultural)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Seguridad ciudada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6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OYAR EL PROCESO DE DESCENTRALIZACIÓN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– Temas de interés del S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7"/>
          <p:cNvSpPr/>
          <p:nvPr/>
        </p:nvSpPr>
        <p:spPr>
          <a:xfrm>
            <a:off x="2027160" y="1281240"/>
            <a:ext cx="2133720" cy="685800"/>
          </a:xfrm>
          <a:prstGeom prst="parallelogram">
            <a:avLst>
              <a:gd name="adj" fmla="val 59431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9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1360440" y="1433520"/>
            <a:ext cx="1279440" cy="452520"/>
          </a:xfrm>
          <a:prstGeom prst="rect">
            <a:avLst/>
          </a:prstGeom>
          <a:ln w="0">
            <a:noFill/>
          </a:ln>
        </p:spPr>
      </p:pic>
      <p:pic>
        <p:nvPicPr>
          <p:cNvPr id="103" name="16 Imagen" descr="NNUU.jpg"/>
          <p:cNvPicPr/>
          <p:nvPr/>
        </p:nvPicPr>
        <p:blipFill>
          <a:blip r:embed="rId3"/>
          <a:stretch/>
        </p:blipFill>
        <p:spPr>
          <a:xfrm>
            <a:off x="6675480" y="1281240"/>
            <a:ext cx="68580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74680" y="2043000"/>
          <a:ext cx="9418680" cy="2770200"/>
        </p:xfrm>
        <a:graphic>
          <a:graphicData uri="http://schemas.openxmlformats.org/drawingml/2006/table">
            <a:tbl>
              <a:tblPr/>
              <a:tblGrid>
                <a:gridCol w="6043680"/>
                <a:gridCol w="33750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: DESARROLLO HUM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as de interés de S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7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EGURAR EL ACCESO UNIVERSAL Y EQUITATIVO A UNA EDUCACIÓN DE CALIDAD Y PROMOVER LA CULTURA Y EL DEPORTE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Educación inicial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Educación secundaria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Educación bilingüe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Patrimonio Cultural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Tráfico ilícito de bienes cultura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8: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JORAR EL ACCESO  UNIVERSAL A SERVICIOS  DE SALUD Y LA NUTRI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 Aseguramiento Universal en salud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Nutrición madre-niño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Mortalidad y morbilidad materna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Salud sexual y reproductiva de adloscentes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VIH SIDA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Enfermedades transmisibles y crónicas.</a:t>
                      </a:r>
                      <a:br>
                        <a:rPr sz="1000"/>
                      </a:b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Salud materno-neonat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74680" y="4862520"/>
          <a:ext cx="9402840" cy="2355840"/>
        </p:xfrm>
        <a:graphic>
          <a:graphicData uri="http://schemas.openxmlformats.org/drawingml/2006/table">
            <a:tbl>
              <a:tblPr/>
              <a:tblGrid>
                <a:gridCol w="6032520"/>
                <a:gridCol w="33703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: COMPETITIVIDAD DEL PAÍ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as de interés de S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9: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MOVER LA COMPETITIVIDAD NACIONAL Y LAS OPORTUNIDADES DE EMPLEO JUSTO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0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ORTALECER LA INTEGRACIÓN DEL PERÚ AL MERCADO MUNDI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1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ARROLLAR LA CIENCIA, INNOVACIÓN Y TECNOLOGÍA EN EL PAÍ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– Temas de interés del S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7"/>
          <p:cNvSpPr/>
          <p:nvPr/>
        </p:nvSpPr>
        <p:spPr>
          <a:xfrm>
            <a:off x="2027160" y="1281240"/>
            <a:ext cx="2133720" cy="685800"/>
          </a:xfrm>
          <a:prstGeom prst="parallelogram">
            <a:avLst>
              <a:gd name="adj" fmla="val 59431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9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1360440" y="1433520"/>
            <a:ext cx="1279440" cy="452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7"/>
          <p:cNvSpPr/>
          <p:nvPr/>
        </p:nvSpPr>
        <p:spPr>
          <a:xfrm>
            <a:off x="6980400" y="1357200"/>
            <a:ext cx="1752480" cy="533520"/>
          </a:xfrm>
          <a:prstGeom prst="parallelogram">
            <a:avLst>
              <a:gd name="adj" fmla="val 62745"/>
            </a:avLst>
          </a:prstGeom>
          <a:solidFill>
            <a:srgbClr val="5bbd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Temas 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Inter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6 Imagen" descr="NNUU.jpg"/>
          <p:cNvPicPr/>
          <p:nvPr/>
        </p:nvPicPr>
        <p:blipFill>
          <a:blip r:embed="rId3"/>
          <a:stretch/>
        </p:blipFill>
        <p:spPr>
          <a:xfrm>
            <a:off x="6675480" y="1281240"/>
            <a:ext cx="68580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8360" y="2881440"/>
          <a:ext cx="9753480" cy="2361600"/>
        </p:xfrm>
        <a:graphic>
          <a:graphicData uri="http://schemas.openxmlformats.org/drawingml/2006/table">
            <a:tbl>
              <a:tblPr/>
              <a:tblGrid>
                <a:gridCol w="6256800"/>
                <a:gridCol w="349668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5: RECURSOS NATURALES Y GESTIÓN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as de interés de S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2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GRAR LA CONSERVACIÓN Y APROVECHAMIENTO SOSTENIBLE DE LOS RECURSOS NATURALES Y LA DIVERSIDAD BIOLÓGICA DEL PAÍS, CON EFICIENCIA, EQUIDAD Y BIENESTAR SOC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Manejo de recursos hídricos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Biodiversidad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Deforestación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Degradación de tierras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- Uso eficiente del agu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3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OYAR  LA CALIDAD AMBIENTAL EN EL MARCO DE  UNA GESTIÓN INTEGRADA DE LOS RIESGOS AMBIENTALES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Manejo de residuos sólidos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- Uso eficiente del agua.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- Gestión de riesg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– Temas de interés del S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7"/>
          <p:cNvSpPr/>
          <p:nvPr/>
        </p:nvSpPr>
        <p:spPr>
          <a:xfrm>
            <a:off x="2027160" y="1738440"/>
            <a:ext cx="2133720" cy="685800"/>
          </a:xfrm>
          <a:prstGeom prst="parallelogram">
            <a:avLst>
              <a:gd name="adj" fmla="val 59431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9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1360440" y="1890720"/>
            <a:ext cx="1279440" cy="452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7"/>
          <p:cNvSpPr/>
          <p:nvPr/>
        </p:nvSpPr>
        <p:spPr>
          <a:xfrm>
            <a:off x="6980400" y="1814400"/>
            <a:ext cx="1752480" cy="533520"/>
          </a:xfrm>
          <a:prstGeom prst="parallelogram">
            <a:avLst>
              <a:gd name="adj" fmla="val 62745"/>
            </a:avLst>
          </a:prstGeom>
          <a:solidFill>
            <a:srgbClr val="5bbd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Temas 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3366"/>
                </a:solidFill>
                <a:latin typeface="Arial"/>
              </a:rPr>
              <a:t>Inter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16 Imagen" descr="NNUU.jpg"/>
          <p:cNvPicPr/>
          <p:nvPr/>
        </p:nvPicPr>
        <p:blipFill>
          <a:blip r:embed="rId3"/>
          <a:stretch/>
        </p:blipFill>
        <p:spPr>
          <a:xfrm>
            <a:off x="6675480" y="1738440"/>
            <a:ext cx="68580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8"/>
          <p:cNvSpPr/>
          <p:nvPr/>
        </p:nvSpPr>
        <p:spPr>
          <a:xfrm>
            <a:off x="4088520" y="1357200"/>
            <a:ext cx="3231720" cy="703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b793"/>
            </a:solidFill>
            <a:miter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ceso participativo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aller co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722600" y="290520"/>
            <a:ext cx="7848360" cy="9468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Antecedente para la Formulación del UND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 algn="ctr"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51200" y="1128600"/>
            <a:ext cx="1523880" cy="914400"/>
          </a:xfrm>
          <a:prstGeom prst="rightArrow">
            <a:avLst>
              <a:gd name="adj1" fmla="val 50000"/>
              <a:gd name="adj2" fmla="val 4166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14 Dic.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2"/>
          <a:stretch/>
        </p:blipFill>
        <p:spPr>
          <a:xfrm>
            <a:off x="7589880" y="1419120"/>
            <a:ext cx="2286000" cy="1825560"/>
          </a:xfrm>
          <a:prstGeom prst="rect">
            <a:avLst/>
          </a:prstGeom>
          <a:ln w="0">
            <a:noFill/>
          </a:ln>
        </p:spPr>
      </p:pic>
      <p:sp>
        <p:nvSpPr>
          <p:cNvPr id="121" name="Line 42"/>
          <p:cNvSpPr/>
          <p:nvPr/>
        </p:nvSpPr>
        <p:spPr>
          <a:xfrm>
            <a:off x="1798560" y="2424240"/>
            <a:ext cx="0" cy="609480"/>
          </a:xfrm>
          <a:prstGeom prst="line">
            <a:avLst/>
          </a:prstGeom>
          <a:ln w="57240">
            <a:solidFill>
              <a:srgbClr val="ff99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7437600" y="7083360"/>
            <a:ext cx="2114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B68BA13F-5881-49FE-B2A5-195AB523F305}" type="slidenum">
              <a:rPr b="0" lang="es-ES_tradnl" sz="1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3480" y="3490920"/>
            <a:ext cx="7315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aboración del Documento de Análisis País que viene elabo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s Nacion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- Actualización de la PNCTI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6086160"/>
            <a:ext cx="8076960" cy="916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3366"/>
                </a:solidFill>
                <a:latin typeface="Arial"/>
              </a:rPr>
              <a:t>Insumo para definir Objetivos del UNDAF en función de las ventajas comparativas de Naciones Unidas y con la participación de instituciones públicas, privadas y de la sociedad civil del Per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3160" y="2424240"/>
            <a:ext cx="108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2560" y="2347920"/>
            <a:ext cx="497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ir Objetivos (prioridades nacion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ser incorporados en el UNDAF 2012- 2016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440" y="70326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00" y="7132680"/>
            <a:ext cx="49903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*) Marco de Asistencia de las Naciones Unidas para el Desarrol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MANUD o UNDAF en sus siglas en inglé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5"/>
          <p:cNvSpPr/>
          <p:nvPr/>
        </p:nvSpPr>
        <p:spPr>
          <a:xfrm>
            <a:off x="3101040" y="4786200"/>
            <a:ext cx="362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5  E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13  Objetivos Estraté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78  Objetivos Específicos</a:t>
            </a: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3551040" y="478584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3366"/>
            </a:solidFill>
            <a:miter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57560" y="516744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PNC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2"/>
          <p:cNvSpPr/>
          <p:nvPr/>
        </p:nvSpPr>
        <p:spPr>
          <a:xfrm>
            <a:off x="1798560" y="3490920"/>
            <a:ext cx="1800" cy="1047600"/>
          </a:xfrm>
          <a:prstGeom prst="line">
            <a:avLst/>
          </a:prstGeom>
          <a:ln w="57240">
            <a:solidFill>
              <a:srgbClr val="ff99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200" y="3719520"/>
            <a:ext cx="14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presen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van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51800" y="4938840"/>
            <a:ext cx="609480" cy="1143000"/>
          </a:xfrm>
          <a:custGeom>
            <a:avLst/>
            <a:gdLst>
              <a:gd name="textAreaLeft" fmla="*/ 81360 w 609480"/>
              <a:gd name="textAreaRight" fmla="*/ 528120 w 609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6200" y="516744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proces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oriza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1798560" y="4938840"/>
            <a:ext cx="1800" cy="819000"/>
          </a:xfrm>
          <a:prstGeom prst="line">
            <a:avLst/>
          </a:prstGeom>
          <a:ln w="57240">
            <a:solidFill>
              <a:srgbClr val="ff99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400" y="5051520"/>
            <a:ext cx="1370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i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aliz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7"/>
          <p:cNvSpPr/>
          <p:nvPr/>
        </p:nvSpPr>
        <p:spPr>
          <a:xfrm>
            <a:off x="1874880" y="442800"/>
            <a:ext cx="7848720" cy="4032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Áreas Prioritarias Conjuntas para el UNDAF 2012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Diagrama" descr=""/>
          <p:cNvPicPr/>
          <p:nvPr/>
        </p:nvPicPr>
        <p:blipFill>
          <a:blip r:embed="rId2"/>
          <a:stretch/>
        </p:blipFill>
        <p:spPr>
          <a:xfrm>
            <a:off x="1133640" y="1500120"/>
            <a:ext cx="8381880" cy="5649840"/>
          </a:xfrm>
          <a:prstGeom prst="rect">
            <a:avLst/>
          </a:prstGeom>
          <a:ln w="0">
            <a:noFill/>
          </a:ln>
        </p:spPr>
      </p:pic>
      <p:sp>
        <p:nvSpPr>
          <p:cNvPr id="140" name="3 Marcador de número de diapositiva"/>
          <p:cNvSpPr/>
          <p:nvPr/>
        </p:nvSpPr>
        <p:spPr>
          <a:xfrm>
            <a:off x="9037800" y="708336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B3A19416-641E-4B1A-827D-68477655896C}" type="slidenum"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341360" y="3567240"/>
            <a:ext cx="747396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riorización Estratégica</a:t>
            </a:r>
            <a:r>
              <a:rPr b="0" lang="es-PE" sz="2800" spc="-1" strike="noStrike">
                <a:solidFill>
                  <a:srgbClr val="002060"/>
                </a:solidFill>
                <a:latin typeface="Impact"/>
              </a:rPr>
              <a:t> Conju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2060"/>
                </a:solidFill>
                <a:latin typeface="Impact"/>
              </a:rPr>
              <a:t>( SNU – APC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UNDAF 2012 -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954680"/>
            <a:ext cx="7915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8775720" y="6935760"/>
            <a:ext cx="9936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agen 3" descr="http://www.apci.gob.pe/imagenes/logo.jpg"/>
          <p:cNvPicPr/>
          <p:nvPr/>
        </p:nvPicPr>
        <p:blipFill>
          <a:blip r:embed="rId2"/>
          <a:srcRect l="0" t="0" r="19443" b="15358"/>
          <a:stretch/>
        </p:blipFill>
        <p:spPr>
          <a:xfrm>
            <a:off x="2255760" y="61920"/>
            <a:ext cx="6248520" cy="824040"/>
          </a:xfrm>
          <a:prstGeom prst="rect">
            <a:avLst/>
          </a:prstGeom>
          <a:ln w="0">
            <a:noFill/>
          </a:ln>
        </p:spPr>
      </p:pic>
      <p:pic>
        <p:nvPicPr>
          <p:cNvPr id="145" name="16 Imagen" descr="NNUU.jpg"/>
          <p:cNvPicPr/>
          <p:nvPr/>
        </p:nvPicPr>
        <p:blipFill>
          <a:blip r:embed="rId3"/>
          <a:stretch/>
        </p:blipFill>
        <p:spPr>
          <a:xfrm>
            <a:off x="3170160" y="1585800"/>
            <a:ext cx="1311480" cy="1308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bandera-peru%25255B1%25255D"/>
          <p:cNvPicPr/>
          <p:nvPr/>
        </p:nvPicPr>
        <p:blipFill>
          <a:blip r:embed="rId4"/>
          <a:stretch/>
        </p:blipFill>
        <p:spPr>
          <a:xfrm>
            <a:off x="5227560" y="1890720"/>
            <a:ext cx="1238400" cy="895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4"/>
          <p:cNvSpPr/>
          <p:nvPr/>
        </p:nvSpPr>
        <p:spPr>
          <a:xfrm>
            <a:off x="7058520" y="59292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20 de Enero d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37:59Z</dcterms:created>
  <dc:creator>wb268020</dc:creator>
  <dc:description/>
  <cp:keywords/>
  <dc:language>en-US</dc:language>
  <cp:lastModifiedBy>rarauco</cp:lastModifiedBy>
  <dcterms:modified xsi:type="dcterms:W3CDTF">2011-01-20T23:44:04Z</dcterms:modified>
  <cp:revision>1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