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2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32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C9912D7-56EF-433B-A0EB-09A879642A07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51280" y="9433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5B5FAF8C-7D05-48F9-B779-2F3DBF4EDBD9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ubicación es donde señala la flecha de color roj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3851280" y="9433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0434E33-D6F3-439A-A923-E190D9C32ADE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3851280" y="9433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FD21355F-9E6F-4383-A98B-E08B5FE20F26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29BC-AB4C-4F96-A697-A92A330CF604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51280" y="9433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D80165FC-1C0B-4F9F-BEC5-F7FDC857F3BE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51280" y="9433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ADDC2AA6-94CA-487B-83E5-6444D60B4AFD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51280" y="9433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6CD8A16A-ABBB-49DA-BC0C-2C1C4E15024E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33640" y="743040"/>
            <a:ext cx="45306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083C-DBAD-426B-B59F-D58B9D10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62F-D3F7-40DD-A88B-DD2F396F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336E-5069-4F13-9D19-FE64B555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A62F-15FB-4341-9016-DA32074D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A48E-F676-4836-9A69-6DC6DCDF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9CB-F5B0-4296-945C-9EA51021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58D2-5758-4F5E-A8F9-E397D60E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509-4B40-4409-AA58-20803F81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B7F-B670-48C1-B478-1D4545F8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1A31-A008-4646-93D5-AFAF58A4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6147-0A3A-44BA-A799-B0D9C565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16B-388D-4ABD-8B53-C61FB4A4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C43A-3281-4B76-873D-97190189797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30 de mayo de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63AB-DE4B-435C-87E4-AE6A9ABCE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apci.gob.pe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pci.gob.pe/beca.php?TIPO=Convocatoria" TargetMode="External"/><Relationship Id="rId2" Type="http://schemas.openxmlformats.org/officeDocument/2006/relationships/hyperlink" Target="http://www.apci.gob.pe/beca.php?TIPO=Convocatoria" TargetMode="External"/><Relationship Id="rId3" Type="http://schemas.openxmlformats.org/officeDocument/2006/relationships/hyperlink" Target="http://www.apci.gob.pe/beca.php?TIPO=Convocatoria" TargetMode="External"/><Relationship Id="rId4" Type="http://schemas.openxmlformats.org/officeDocument/2006/relationships/hyperlink" Target="http://www.apci.gob.pe/beca.php?TIPO=Convocatoria" TargetMode="External"/><Relationship Id="rId5" Type="http://schemas.openxmlformats.org/officeDocument/2006/relationships/hyperlink" Target="http://www.apci.gob.pe/beca.php?TIPO=Convocatoria" TargetMode="External"/><Relationship Id="rId6" Type="http://schemas.openxmlformats.org/officeDocument/2006/relationships/image" Target="../media/image1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Marcador de número de diapositiva"/>
          <p:cNvSpPr/>
          <p:nvPr/>
        </p:nvSpPr>
        <p:spPr>
          <a:xfrm>
            <a:off x="6553080" y="5780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logotipopq"/>
          <p:cNvPicPr/>
          <p:nvPr/>
        </p:nvPicPr>
        <p:blipFill>
          <a:blip r:embed="rId1"/>
          <a:stretch/>
        </p:blipFill>
        <p:spPr>
          <a:xfrm>
            <a:off x="281160" y="6075360"/>
            <a:ext cx="1066680" cy="496800"/>
          </a:xfrm>
          <a:prstGeom prst="rect">
            <a:avLst/>
          </a:prstGeom>
          <a:ln w="0">
            <a:noFill/>
          </a:ln>
        </p:spPr>
      </p:pic>
      <p:sp>
        <p:nvSpPr>
          <p:cNvPr id="50" name="Line 5"/>
          <p:cNvSpPr/>
          <p:nvPr/>
        </p:nvSpPr>
        <p:spPr>
          <a:xfrm>
            <a:off x="696960" y="3954600"/>
            <a:ext cx="7869240" cy="21960"/>
          </a:xfrm>
          <a:prstGeom prst="line">
            <a:avLst/>
          </a:prstGeom>
          <a:ln cap="rnd" w="25560">
            <a:solidFill>
              <a:srgbClr val="3e77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7"/>
          <p:cNvSpPr/>
          <p:nvPr/>
        </p:nvSpPr>
        <p:spPr>
          <a:xfrm>
            <a:off x="5568840" y="5962680"/>
            <a:ext cx="3289320" cy="36036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Calibri"/>
              </a:rPr>
              <a:t>21 de mayo de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544680" y="1486080"/>
            <a:ext cx="82803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80960" y="2191320"/>
            <a:ext cx="79866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UNIÓN DE COORDIN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uestionario sobre Cooperación Sur-S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ara el Informe Iberoamericano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1"/>
          <p:cNvGrpSpPr/>
          <p:nvPr/>
        </p:nvGrpSpPr>
        <p:grpSpPr>
          <a:xfrm>
            <a:off x="376200" y="444600"/>
            <a:ext cx="8134560" cy="631440"/>
            <a:chOff x="376200" y="444600"/>
            <a:chExt cx="8134560" cy="631440"/>
          </a:xfrm>
        </p:grpSpPr>
        <p:pic>
          <p:nvPicPr>
            <p:cNvPr id="55" name="Picture 12" descr=""/>
            <p:cNvPicPr/>
            <p:nvPr/>
          </p:nvPicPr>
          <p:blipFill>
            <a:blip r:embed="rId2"/>
            <a:srcRect l="0" t="0" r="39704" b="0"/>
            <a:stretch/>
          </p:blipFill>
          <p:spPr>
            <a:xfrm>
              <a:off x="376200" y="444600"/>
              <a:ext cx="34070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13"/>
            <p:cNvSpPr/>
            <p:nvPr/>
          </p:nvSpPr>
          <p:spPr>
            <a:xfrm>
              <a:off x="6240600" y="448920"/>
              <a:ext cx="2270160" cy="6271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Calibri"/>
                </a:rPr>
                <a:t>Dirección de Gestión y Negociación Internacion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14"/>
            <p:cNvSpPr/>
            <p:nvPr/>
          </p:nvSpPr>
          <p:spPr>
            <a:xfrm>
              <a:off x="3828960" y="448920"/>
              <a:ext cx="2370240" cy="627120"/>
            </a:xfrm>
            <a:prstGeom prst="rect">
              <a:avLst/>
            </a:pr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Calibri"/>
                </a:rPr>
                <a:t>Agencia Peruana de Cooperación Internacion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104840"/>
            <a:ext cx="77724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ajo esta modalidad clasifica aquella cooperación que cumple simultáneamente con las siguientes condi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rticipan de ésta, junto a otros posibles socios, un mínimo de 3 o más países en desarrollo, cualquiera que sea su función (cooperante, coordinador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cooperación es acordada y diseñada de manera conjunta por todos los países participant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iene un enfoque regional, en el sentido de que tanto el objetivo (la integración y/o el desarrollo de la región) como la estrategia, son compartidos por oferentes y recepto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ejecuta bajo un marco de institucionalidad, en cualquiera de sus variantes: esquema de integración tradicional (CAN, Conferencia Iberoamericana, MERCOSUR, Proyecto Mesoamericano…); Programa impulsado por los países; otras formas de institucionalidad (por ejemplo, un esquemas de concertación sectorial o el apoyo a un programa ejecutado a través de un organismo o un banco de desarroll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instrumentaliza a través de Acciones, Proyectos o Programas de Cooperación (conjunto de proyectos orientados a un mismo objetivo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7"/>
          <p:cNvSpPr/>
          <p:nvPr/>
        </p:nvSpPr>
        <p:spPr>
          <a:xfrm>
            <a:off x="1112760" y="289080"/>
            <a:ext cx="7526520" cy="52056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Cooperación Horizontal Sur-Sur Reg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047240"/>
            <a:ext cx="77724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te del intercambio de una experiencia entre dos países en desarrol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juga las capacidades y recursos financieros e institucionales de los socios para apoyar procesos de desarrollo, institucional o sectorial de un país de menor desarrollo rela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rasgo diferencial procede de la intervención de un tercer actor (país en desarrollo, país desarrollado u organismo multilateral) que,, apoya la acción con una dotación financiera y/o técnica y huma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países participantes se reparten los roles de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cepto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primer ofere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principal, aunque no exclusivamente, aporte técnico) y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egundo ofere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principal, aunque no exclusivamente, aporte financier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1112760" y="289080"/>
            <a:ext cx="7526520" cy="58140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operación Sur-Sur Triangular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Conector recto 20"/>
          <p:cNvSpPr/>
          <p:nvPr/>
        </p:nvSpPr>
        <p:spPr>
          <a:xfrm>
            <a:off x="2976480" y="5727600"/>
            <a:ext cx="3810240" cy="180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Agrupar 40"/>
          <p:cNvGrpSpPr/>
          <p:nvPr/>
        </p:nvGrpSpPr>
        <p:grpSpPr>
          <a:xfrm>
            <a:off x="614520" y="2604960"/>
            <a:ext cx="8153280" cy="1219320"/>
            <a:chOff x="614520" y="2604960"/>
            <a:chExt cx="8153280" cy="1219320"/>
          </a:xfrm>
        </p:grpSpPr>
        <p:sp>
          <p:nvSpPr>
            <p:cNvPr id="109" name="Rectángulo redondeado 4"/>
            <p:cNvSpPr/>
            <p:nvPr/>
          </p:nvSpPr>
          <p:spPr>
            <a:xfrm>
              <a:off x="614520" y="2604960"/>
              <a:ext cx="3657600" cy="1219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NOR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ángulo 5"/>
            <p:cNvSpPr/>
            <p:nvPr/>
          </p:nvSpPr>
          <p:spPr>
            <a:xfrm>
              <a:off x="5186520" y="2604960"/>
              <a:ext cx="3581280" cy="1219320"/>
            </a:xfrm>
            <a:prstGeom prst="rect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S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lecha derecha 8"/>
            <p:cNvSpPr/>
            <p:nvPr/>
          </p:nvSpPr>
          <p:spPr>
            <a:xfrm>
              <a:off x="4272120" y="3138480"/>
              <a:ext cx="914400" cy="45720"/>
            </a:xfrm>
            <a:prstGeom prst="rightArrow">
              <a:avLst>
                <a:gd name="adj1" fmla="val 50000"/>
                <a:gd name="adj2" fmla="val 50370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Agrupar 41"/>
          <p:cNvGrpSpPr/>
          <p:nvPr/>
        </p:nvGrpSpPr>
        <p:grpSpPr>
          <a:xfrm>
            <a:off x="577800" y="5118120"/>
            <a:ext cx="8153280" cy="1219320"/>
            <a:chOff x="577800" y="5118120"/>
            <a:chExt cx="8153280" cy="1219320"/>
          </a:xfrm>
        </p:grpSpPr>
        <p:sp>
          <p:nvSpPr>
            <p:cNvPr id="113" name="Rectángulo 6"/>
            <p:cNvSpPr/>
            <p:nvPr/>
          </p:nvSpPr>
          <p:spPr>
            <a:xfrm>
              <a:off x="577800" y="5118120"/>
              <a:ext cx="3657600" cy="1219320"/>
            </a:xfrm>
            <a:prstGeom prst="rect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S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ángulo 7"/>
            <p:cNvSpPr/>
            <p:nvPr/>
          </p:nvSpPr>
          <p:spPr>
            <a:xfrm>
              <a:off x="5149800" y="5118120"/>
              <a:ext cx="3581280" cy="1219320"/>
            </a:xfrm>
            <a:prstGeom prst="rect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S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lecha a la derecha con bandas 9"/>
            <p:cNvSpPr/>
            <p:nvPr/>
          </p:nvSpPr>
          <p:spPr>
            <a:xfrm>
              <a:off x="4235400" y="5651640"/>
              <a:ext cx="914400" cy="75960"/>
            </a:xfrm>
            <a:prstGeom prst="pie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Agrupar 42"/>
          <p:cNvGrpSpPr/>
          <p:nvPr/>
        </p:nvGrpSpPr>
        <p:grpSpPr>
          <a:xfrm>
            <a:off x="2747880" y="3138480"/>
            <a:ext cx="5180040" cy="2895480"/>
            <a:chOff x="2747880" y="3138480"/>
            <a:chExt cx="5180040" cy="2895480"/>
          </a:xfrm>
        </p:grpSpPr>
        <p:sp>
          <p:nvSpPr>
            <p:cNvPr id="117" name="Conector recto 18"/>
            <p:cNvSpPr/>
            <p:nvPr/>
          </p:nvSpPr>
          <p:spPr>
            <a:xfrm flipV="1">
              <a:off x="2747880" y="3138480"/>
              <a:ext cx="5178600" cy="289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Conector recto 36"/>
            <p:cNvSpPr/>
            <p:nvPr/>
          </p:nvSpPr>
          <p:spPr>
            <a:xfrm>
              <a:off x="2747880" y="6032520"/>
              <a:ext cx="517860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Conector recto 24"/>
            <p:cNvSpPr/>
            <p:nvPr/>
          </p:nvSpPr>
          <p:spPr>
            <a:xfrm flipH="1">
              <a:off x="7926480" y="3139920"/>
              <a:ext cx="1440" cy="289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Triángulo rectángulo 28"/>
          <p:cNvSpPr/>
          <p:nvPr/>
        </p:nvSpPr>
        <p:spPr>
          <a:xfrm>
            <a:off x="1528920" y="3184560"/>
            <a:ext cx="5030640" cy="2849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Agrupar 43"/>
          <p:cNvGrpSpPr/>
          <p:nvPr/>
        </p:nvGrpSpPr>
        <p:grpSpPr>
          <a:xfrm>
            <a:off x="3903840" y="1582560"/>
            <a:ext cx="1904760" cy="4053240"/>
            <a:chOff x="3903840" y="1582560"/>
            <a:chExt cx="1904760" cy="4053240"/>
          </a:xfrm>
        </p:grpSpPr>
        <p:sp>
          <p:nvSpPr>
            <p:cNvPr id="122" name="Elipse 37"/>
            <p:cNvSpPr/>
            <p:nvPr/>
          </p:nvSpPr>
          <p:spPr>
            <a:xfrm>
              <a:off x="3903840" y="1582560"/>
              <a:ext cx="1904760" cy="10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Organismo </a:t>
              </a:r>
              <a:r>
                <a:rPr b="0" lang="en-US" sz="17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Internacion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3" name="Conector recto de flecha 39"/>
            <p:cNvCxnSpPr/>
            <p:nvPr/>
          </p:nvCxnSpPr>
          <p:spPr>
            <a:xfrm flipH="1">
              <a:off x="4854240" y="2596680"/>
              <a:ext cx="3600" cy="3039480"/>
            </a:xfrm>
            <a:prstGeom prst="straightConnector1">
              <a:avLst/>
            </a:prstGeom>
            <a:ln w="25560">
              <a:solidFill>
                <a:srgbClr val="008000"/>
              </a:solidFill>
              <a:miter/>
              <a:tailEnd len="med" type="arrow" w="med"/>
            </a:ln>
          </p:spPr>
        </p:cxnSp>
      </p:grpSp>
      <p:sp>
        <p:nvSpPr>
          <p:cNvPr id="124" name="Text Box 27"/>
          <p:cNvSpPr/>
          <p:nvPr/>
        </p:nvSpPr>
        <p:spPr>
          <a:xfrm>
            <a:off x="727200" y="493560"/>
            <a:ext cx="8531280" cy="52056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alibri"/>
              </a:rPr>
              <a:t>Cooperación Sur- Sur – Trian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ransferencias (en especie, financieras, técnicas o logísticas) destinadas a un país que acaba de sufrir una catástrofe, en general de origen sísmico o climatológico (huracanes, ciclones, lluvias torrenciales…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objetivo último es facilitar el restablecimiento de los servicios esenciales y la vuelta de la población a condiciones de vida norma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u grado de concesionalidad es del 100%. No computa aquí el apoyo logístico a las tareas que específicamente afectan a la prev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trabajará con INDECI este capítulo, no obstante de haber participado otras instituciones en estos apoyos (ejemplo Ministerio de Salud, se agradecerá inform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893880" y="666720"/>
            <a:ext cx="7562880" cy="52056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Ayuda Humanitaria y de Em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41520" y="187272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Experi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Se puede presentar uno o varios proyectos de Cooperación Horizontal Sur-Sur Bilateral o de Sur-Sur Triangular en los que la institución ha participado y que, parezcan especialmente relevantes.  Destacar proyectos sobre Transformación del Estado y Desarrol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Cas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Se puede presentar uno o varios proyectos de Cooperación Horizontal Sur-Sur Bilateral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o de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Sur-Sur  Triangular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en los que la institución ha participado (preferiblemente como receptor), y que cumpla con los criterios establecidos para ser considerado un caso (ver metodología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En ambos casos presentar  evidencias, fotografías, documentos y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773280" y="1219320"/>
            <a:ext cx="7702560" cy="52056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Sección de casos y Experiencias ( op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5" descr="logotipopq"/>
          <p:cNvPicPr/>
          <p:nvPr/>
        </p:nvPicPr>
        <p:blipFill>
          <a:blip r:embed="rId1"/>
          <a:stretch/>
        </p:blipFill>
        <p:spPr>
          <a:xfrm>
            <a:off x="281160" y="6075360"/>
            <a:ext cx="106668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I PA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9480"/>
            <a:ext cx="77724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tar con información real y actualizada de todas las acciones de cooperación sur sur (CSS) que se realizan en el Perú sean actividades puntuales o proyectos,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an financiadas por fondos nacionales o por terceras fuentes de cooperación internacional o  priv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trata de medir la real dimensión de la Cooperación sur - sur en nuestro país.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Los datos que se solicitan corresponden al año 201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años anteriores se contabilizó solo lo que se canalizaba por la APCI , que representa solo un porcentaje mínimo del universo de lo que realmente se realiza en el país, bajo esta modalidad de co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el año 2011, con la información recopilada en instituciones públicas y cooperantes se identificaron  más de 30 actividades de CSS como oferente. La APCI tenía registrada menos de 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febrero de 2012 se envió un cuestionario preliminar a todos los ministerios, Organismos ejecutores, Organismos autónomos públicos para conocer aquellas que había realizado actividades y proyectos de CSS en el 2011. En esta ocasión se ha invitado solo a las instituciones públicas  que respondieron positiv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ha invitado a participar en este levantamiento de información a embajadas, agencias bilaterales de cooperación y organismos internacionales, en el entendido que algunas actividades de CSS triangular pueden haber sido promovidas desde los propios cooperantes con las instituciones públ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logotipopq"/>
          <p:cNvPicPr/>
          <p:nvPr/>
        </p:nvPicPr>
        <p:blipFill>
          <a:blip r:embed="rId1"/>
          <a:stretch/>
        </p:blipFill>
        <p:spPr>
          <a:xfrm>
            <a:off x="281160" y="6075360"/>
            <a:ext cx="1066680" cy="496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7"/>
          <p:cNvSpPr/>
          <p:nvPr/>
        </p:nvSpPr>
        <p:spPr>
          <a:xfrm>
            <a:off x="860400" y="395280"/>
            <a:ext cx="7526520" cy="52056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Objetivo del Cuestionario 2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14240" y="1547280"/>
            <a:ext cx="777240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úb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sterios y sus Organismos  descentraliz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Organismos  Constitucionalmente  autóno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obiernos Reg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niversidades Públ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iva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niversidades Priv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Otras instituciones priv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uentes Cooperant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gencia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Organismos internacional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mbajadas de países cooperan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logotipopq"/>
          <p:cNvPicPr/>
          <p:nvPr/>
        </p:nvPicPr>
        <p:blipFill>
          <a:blip r:embed="rId1"/>
          <a:stretch/>
        </p:blipFill>
        <p:spPr>
          <a:xfrm>
            <a:off x="281160" y="6075360"/>
            <a:ext cx="1066680" cy="496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7"/>
          <p:cNvSpPr/>
          <p:nvPr/>
        </p:nvSpPr>
        <p:spPr>
          <a:xfrm>
            <a:off x="1084320" y="647640"/>
            <a:ext cx="7562880" cy="52056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Instituciones que han recibido el Cuestion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7"/>
          <p:cNvSpPr/>
          <p:nvPr/>
        </p:nvSpPr>
        <p:spPr>
          <a:xfrm>
            <a:off x="728640" y="1224000"/>
            <a:ext cx="7699320" cy="57456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indent="-36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Cuestionario 2012 y Orientaciones Metodológ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logotipopq"/>
          <p:cNvPicPr/>
          <p:nvPr/>
        </p:nvPicPr>
        <p:blipFill>
          <a:blip r:embed="rId1"/>
          <a:stretch/>
        </p:blipFill>
        <p:spPr>
          <a:xfrm>
            <a:off x="266760" y="6066000"/>
            <a:ext cx="1066680" cy="496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/>
          <p:cNvPicPr/>
          <p:nvPr/>
        </p:nvPicPr>
        <p:blipFill>
          <a:blip r:embed="rId2"/>
          <a:stretch/>
        </p:blipFill>
        <p:spPr>
          <a:xfrm>
            <a:off x="2684520" y="2021040"/>
            <a:ext cx="345132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7240" y="1134720"/>
            <a:ext cx="7425000" cy="54612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txBody>
          <a:bodyPr anchor="ctr">
            <a:noAutofit/>
          </a:bodyPr>
          <a:p>
            <a:pPr marL="361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  <a:ea typeface="Arial"/>
              </a:rPr>
              <a:t>Orientaciones Metodológ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rcRect l="11001" t="17030" r="10816" b="11124"/>
          <a:stretch/>
        </p:blipFill>
        <p:spPr>
          <a:xfrm>
            <a:off x="1452600" y="2048040"/>
            <a:ext cx="6224400" cy="413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Picture 5" descr="logotipopq"/>
          <p:cNvPicPr/>
          <p:nvPr/>
        </p:nvPicPr>
        <p:blipFill>
          <a:blip r:embed="rId2"/>
          <a:stretch/>
        </p:blipFill>
        <p:spPr>
          <a:xfrm>
            <a:off x="266760" y="6066000"/>
            <a:ext cx="106668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6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2040" y="1380960"/>
            <a:ext cx="7715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0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9:30 hora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pertura de la Reunión a cargo de la Sra. Liliana La Rosa Huertas-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rectora de Gestión y Negociación Internacional- AP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0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09:40 horas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esentación de los particip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0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09:50 Horas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esentación de los Objetivos de la Reun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0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0:00 horas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 Informe iberoamericano de Cooperación Sur-Sur a cargo de Cristina Xalma. Consultora de la Secretaría General Iberoameric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0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0:30 horas: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Cuestionario de cooperación Sur Sur 2012, a cargo de Cristina Xalma. Consultora de la Secretaría General Iberoameric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0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1:00 hora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eguntas de los Asist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0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1:25 hora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clusiones  de la Reun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0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0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0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0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06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757080" y="262080"/>
            <a:ext cx="7526520" cy="58140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16040" y="2241360"/>
            <a:ext cx="7772400" cy="32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PCI ha colocado el cuestionario en Access y en  Excel en la web de AP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lazo de entrega en APCI: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 07 de junio de 2012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  encarece estricto cumplimiento, pues a su vez hay un plazo para entregar los datos a la SEGI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logotipopq"/>
          <p:cNvPicPr/>
          <p:nvPr/>
        </p:nvPicPr>
        <p:blipFill>
          <a:blip r:embed="rId1"/>
          <a:stretch/>
        </p:blipFill>
        <p:spPr>
          <a:xfrm>
            <a:off x="281160" y="6075360"/>
            <a:ext cx="1066680" cy="4968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7"/>
          <p:cNvSpPr/>
          <p:nvPr/>
        </p:nvSpPr>
        <p:spPr>
          <a:xfrm>
            <a:off x="990720" y="1312920"/>
            <a:ext cx="7562880" cy="52056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Pla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00200" y="2138400"/>
            <a:ext cx="772776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brindará asistencia para el llenado del cuestion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cuestionario tiene datos  numéricos para cooperación sur sur y trian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bién  hay un espacio para  colocar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asos y experienci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. Esta última sección no es obligatoria, sin embargo aquellas instituciones  que puedan  desarrollar su experiencia serán bienven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entrega Orientaciones Metodológicas con definiciones y ejemp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831960" y="1278000"/>
            <a:ext cx="7613640" cy="52056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Entrenamientos y Consul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logotipopq"/>
          <p:cNvPicPr/>
          <p:nvPr/>
        </p:nvPicPr>
        <p:blipFill>
          <a:blip r:embed="rId1"/>
          <a:stretch/>
        </p:blipFill>
        <p:spPr>
          <a:xfrm>
            <a:off x="281160" y="6075360"/>
            <a:ext cx="106668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7"/>
          <p:cNvSpPr/>
          <p:nvPr/>
        </p:nvSpPr>
        <p:spPr>
          <a:xfrm>
            <a:off x="917640" y="685800"/>
            <a:ext cx="7526160" cy="82548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Localización del Cuestionario en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http://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apci.gob.pe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5" descr="logotipopq"/>
          <p:cNvPicPr/>
          <p:nvPr/>
        </p:nvPicPr>
        <p:blipFill>
          <a:blip r:embed="rId2"/>
          <a:stretch/>
        </p:blipFill>
        <p:spPr>
          <a:xfrm>
            <a:off x="266760" y="6066000"/>
            <a:ext cx="1066680" cy="496800"/>
          </a:xfrm>
          <a:prstGeom prst="rect">
            <a:avLst/>
          </a:prstGeom>
          <a:ln w="0">
            <a:noFill/>
          </a:ln>
        </p:spPr>
      </p:pic>
      <p:grpSp>
        <p:nvGrpSpPr>
          <p:cNvPr id="154" name="Line 5"/>
          <p:cNvGrpSpPr/>
          <p:nvPr/>
        </p:nvGrpSpPr>
        <p:grpSpPr>
          <a:xfrm>
            <a:off x="2498760" y="6397920"/>
            <a:ext cx="818280" cy="521640"/>
            <a:chOff x="2498760" y="6397920"/>
            <a:chExt cx="818280" cy="521640"/>
          </a:xfrm>
        </p:grpSpPr>
        <p:pic>
          <p:nvPicPr>
            <p:cNvPr id="155" name="Line 5" descr=""/>
            <p:cNvPicPr/>
            <p:nvPr/>
          </p:nvPicPr>
          <p:blipFill>
            <a:blip r:embed="rId3"/>
            <a:stretch/>
          </p:blipFill>
          <p:spPr>
            <a:xfrm rot="11409600">
              <a:off x="2514240" y="6526440"/>
              <a:ext cx="787320" cy="2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 rot="3726600">
              <a:off x="2718000" y="6481800"/>
              <a:ext cx="4032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7" name="Picture 8" descr=""/>
          <p:cNvPicPr/>
          <p:nvPr/>
        </p:nvPicPr>
        <p:blipFill>
          <a:blip r:embed="rId4"/>
          <a:stretch/>
        </p:blipFill>
        <p:spPr>
          <a:xfrm>
            <a:off x="2046240" y="1933560"/>
            <a:ext cx="5595840" cy="3975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781200" y="6181560"/>
            <a:ext cx="1361880" cy="352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7"/>
          <p:cNvSpPr/>
          <p:nvPr/>
        </p:nvSpPr>
        <p:spPr>
          <a:xfrm>
            <a:off x="917640" y="685800"/>
            <a:ext cx="7526160" cy="76464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Link de ubic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apci.gob.pe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/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beca.php?TIPO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=Convocatoria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885960" y="1555920"/>
            <a:ext cx="8258040" cy="45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logotipopq"/>
          <p:cNvPicPr/>
          <p:nvPr/>
        </p:nvPicPr>
        <p:blipFill>
          <a:blip r:embed="rId6"/>
          <a:stretch/>
        </p:blipFill>
        <p:spPr>
          <a:xfrm>
            <a:off x="266760" y="6066000"/>
            <a:ext cx="1066680" cy="496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7"/>
          <a:stretch/>
        </p:blipFill>
        <p:spPr>
          <a:xfrm>
            <a:off x="1457280" y="1725480"/>
            <a:ext cx="6429600" cy="4276800"/>
          </a:xfrm>
          <a:prstGeom prst="rect">
            <a:avLst/>
          </a:prstGeom>
          <a:ln w="0">
            <a:noFill/>
          </a:ln>
        </p:spPr>
      </p:pic>
      <p:grpSp>
        <p:nvGrpSpPr>
          <p:cNvPr id="163" name="Line 5"/>
          <p:cNvGrpSpPr/>
          <p:nvPr/>
        </p:nvGrpSpPr>
        <p:grpSpPr>
          <a:xfrm>
            <a:off x="7302600" y="2432160"/>
            <a:ext cx="862560" cy="573120"/>
            <a:chOff x="7302600" y="2432160"/>
            <a:chExt cx="862560" cy="573120"/>
          </a:xfrm>
        </p:grpSpPr>
        <p:pic>
          <p:nvPicPr>
            <p:cNvPr id="164" name="Line 5" descr=""/>
            <p:cNvPicPr/>
            <p:nvPr/>
          </p:nvPicPr>
          <p:blipFill>
            <a:blip r:embed="rId8"/>
            <a:stretch/>
          </p:blipFill>
          <p:spPr>
            <a:xfrm>
              <a:off x="7302600" y="2432160"/>
              <a:ext cx="84132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1142200">
              <a:off x="7341840" y="2517480"/>
              <a:ext cx="8017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Rectangle 3" descr=""/>
          <p:cNvPicPr/>
          <p:nvPr/>
        </p:nvPicPr>
        <p:blipFill>
          <a:blip r:embed="rId1"/>
          <a:srcRect l="5024" t="15509" r="6741" b="6945"/>
          <a:stretch/>
        </p:blipFill>
        <p:spPr>
          <a:xfrm>
            <a:off x="690480" y="600120"/>
            <a:ext cx="7348680" cy="3419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19360" y="1685880"/>
            <a:ext cx="4762440" cy="1486080"/>
          </a:xfrm>
          <a:prstGeom prst="ellipse">
            <a:avLst/>
          </a:prstGeom>
          <a:noFill/>
          <a:ln w="3240">
            <a:solidFill>
              <a:srgbClr val="ff0000"/>
            </a:solidFill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Rectangle 3" descr=""/>
          <p:cNvPicPr/>
          <p:nvPr/>
        </p:nvPicPr>
        <p:blipFill>
          <a:blip r:embed="rId1"/>
          <a:stretch/>
        </p:blipFill>
        <p:spPr>
          <a:xfrm>
            <a:off x="723960" y="11430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067280" y="3038400"/>
            <a:ext cx="780840" cy="314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3" descr=""/>
          <p:cNvPicPr/>
          <p:nvPr/>
        </p:nvPicPr>
        <p:blipFill>
          <a:blip r:embed="rId1"/>
          <a:stretch/>
        </p:blipFill>
        <p:spPr>
          <a:xfrm>
            <a:off x="685800" y="140976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Rectangl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3" descr=""/>
          <p:cNvPicPr/>
          <p:nvPr/>
        </p:nvPicPr>
        <p:blipFill>
          <a:blip r:embed="rId1"/>
          <a:stretch/>
        </p:blipFill>
        <p:spPr>
          <a:xfrm>
            <a:off x="771480" y="113364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Rectangle 3" descr=""/>
          <p:cNvPicPr/>
          <p:nvPr/>
        </p:nvPicPr>
        <p:blipFill>
          <a:blip r:embed="rId1"/>
          <a:stretch/>
        </p:blipFill>
        <p:spPr>
          <a:xfrm>
            <a:off x="685800" y="118116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5 Marcador de pie de págin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A1B6-761E-4A3F-BD61-043C0353F1B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130788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operación internacional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isposición compartida de dos o más países dirigida a sumar esfuerzos para conseguir un objetivo de mutuo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operación internacional para el desarrollo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cción deliberada de cooperación dirigida a ampliar las oportunidades (recursos y posibilidades) de desarrollo de al menos uno (el país menos desarrollado) de los implic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yuda internacional para el desarrollo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nsferencia de recursos que bajo determinadas condiciones (de concesionalidad) se dirige a ampliar las posibilidades de desarrollo del recep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795240" y="414360"/>
            <a:ext cx="7526520" cy="58140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efiniciones de Co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3" descr=""/>
          <p:cNvPicPr/>
          <p:nvPr/>
        </p:nvPicPr>
        <p:blipFill>
          <a:blip r:embed="rId1"/>
          <a:stretch/>
        </p:blipFill>
        <p:spPr>
          <a:xfrm>
            <a:off x="695160" y="136224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3" descr=""/>
          <p:cNvPicPr/>
          <p:nvPr/>
        </p:nvPicPr>
        <p:blipFill>
          <a:blip r:embed="rId1"/>
          <a:stretch/>
        </p:blipFill>
        <p:spPr>
          <a:xfrm>
            <a:off x="457200" y="1162080"/>
            <a:ext cx="818676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50444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sultas en el 319-3639, 319 3645 ó 319 364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ledad Bernuy: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sbernuy@apci.gob.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Yulisa Llanque: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yllanque@apci.gob.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guel Méndez: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mmendez@apci.gob.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logotipoAPCI"/>
          <p:cNvPicPr/>
          <p:nvPr/>
        </p:nvPicPr>
        <p:blipFill>
          <a:blip r:embed="rId1"/>
          <a:stretch/>
        </p:blipFill>
        <p:spPr>
          <a:xfrm>
            <a:off x="770040" y="5697360"/>
            <a:ext cx="121896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logotipoAPCI"/>
          <p:cNvPicPr/>
          <p:nvPr/>
        </p:nvPicPr>
        <p:blipFill>
          <a:blip r:embed="rId1"/>
          <a:stretch/>
        </p:blipFill>
        <p:spPr>
          <a:xfrm>
            <a:off x="3427560" y="5670720"/>
            <a:ext cx="1906560" cy="58716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5"/>
          <p:cNvSpPr/>
          <p:nvPr/>
        </p:nvSpPr>
        <p:spPr>
          <a:xfrm>
            <a:off x="1504800" y="2895480"/>
            <a:ext cx="6382080" cy="137160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3e77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Text Box 6" descr=""/>
          <p:cNvPicPr/>
          <p:nvPr/>
        </p:nvPicPr>
        <p:blipFill>
          <a:blip r:embed="rId2"/>
          <a:stretch/>
        </p:blipFill>
        <p:spPr>
          <a:xfrm>
            <a:off x="2932200" y="3157560"/>
            <a:ext cx="3529080" cy="744480"/>
          </a:xfrm>
          <a:prstGeom prst="rect">
            <a:avLst/>
          </a:prstGeom>
          <a:ln w="0">
            <a:noFill/>
          </a:ln>
        </p:spPr>
      </p:pic>
      <p:sp>
        <p:nvSpPr>
          <p:cNvPr id="18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0BCD-751A-40CF-B90A-F39F549B8928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3 Marcador de pie de págin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C5BF-DB04-40D7-A587-AAC1BBF7BEB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394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76160" y="152388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"/>
          <p:cNvSpPr/>
          <p:nvPr/>
        </p:nvSpPr>
        <p:spPr>
          <a:xfrm>
            <a:off x="4200480" y="2060640"/>
            <a:ext cx="4943520" cy="422892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4680">
            <a:solidFill>
              <a:srgbClr val="b1ae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w Cen MT"/>
              </a:rPr>
              <a:t>Cooperación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w Cen MT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4643280" y="3284640"/>
            <a:ext cx="3429000" cy="2577960"/>
          </a:xfrm>
          <a:prstGeom prst="roundRect">
            <a:avLst>
              <a:gd name="adj" fmla="val 16667"/>
            </a:avLst>
          </a:prstGeom>
          <a:solidFill>
            <a:srgbClr val="00ccff">
              <a:alpha val="50000"/>
            </a:srgbClr>
          </a:solidFill>
          <a:ln w="4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Cooperación para 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4716360" y="4221000"/>
            <a:ext cx="2448000" cy="1951200"/>
          </a:xfrm>
          <a:prstGeom prst="roundRect">
            <a:avLst>
              <a:gd name="adj" fmla="val 16667"/>
            </a:avLst>
          </a:prstGeom>
          <a:solidFill>
            <a:srgbClr val="ff4f4f">
              <a:alpha val="50000"/>
            </a:srgbClr>
          </a:solidFill>
          <a:ln w="4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Cooperación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 Sur-S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4932360" y="518148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Cooperación Triang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871560" y="747720"/>
            <a:ext cx="7526160" cy="94716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iferentes dimensiones de la Cooperació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C682-A817-46BB-A389-C5051ED78ECC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logotipopq"/>
          <p:cNvPicPr/>
          <p:nvPr/>
        </p:nvPicPr>
        <p:blipFill>
          <a:blip r:embed="rId1"/>
          <a:stretch/>
        </p:blipFill>
        <p:spPr>
          <a:xfrm>
            <a:off x="233280" y="6086520"/>
            <a:ext cx="1067040" cy="496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7"/>
          <p:cNvSpPr/>
          <p:nvPr/>
        </p:nvSpPr>
        <p:spPr>
          <a:xfrm>
            <a:off x="833400" y="728640"/>
            <a:ext cx="7526520" cy="64260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Cooperación Sur – S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39560" y="1716120"/>
            <a:ext cx="822960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54200" indent="-220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20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  <a:ea typeface="Arial"/>
              </a:rPr>
              <a:t>Modalidad de Cooperació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2068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20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  <a:ea typeface="Arial"/>
              </a:rPr>
              <a:t>CSS se basa en la 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olidaridad de los países y en un proceso de co- participación o intercambio voluntario de recursos técnicos, pericias y capacidades, entre países en desarrollo que permite compartir sus mutuas experiencias para avanzar en su propio desarro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20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74D3-A1B7-4F8A-9A86-6FB0327ACDB2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logotipopq"/>
          <p:cNvPicPr/>
          <p:nvPr/>
        </p:nvPicPr>
        <p:blipFill>
          <a:blip r:embed="rId1"/>
          <a:stretch/>
        </p:blipFill>
        <p:spPr>
          <a:xfrm>
            <a:off x="233280" y="6086520"/>
            <a:ext cx="1067040" cy="496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7"/>
          <p:cNvSpPr/>
          <p:nvPr/>
        </p:nvSpPr>
        <p:spPr>
          <a:xfrm>
            <a:off x="938160" y="525600"/>
            <a:ext cx="7526520" cy="64260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Principios / Características de la C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96800" y="1496880"/>
            <a:ext cx="831852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54200" indent="-220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Horizontalidad  y beneficio mutu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20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Derivada de acuerdos entre países con desafíos de desarrollo similares a nivel local y glob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20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Principal fortaleza: el fortalecimiento de capacidad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20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  <a:ea typeface="Arial"/>
              </a:rPr>
              <a:t>Busca mejorar la efectividad del cooperació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20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  <a:ea typeface="Arial"/>
              </a:rPr>
              <a:t>Promueve el uso de tecnologías de fácil uso, mantenimiento y conservació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20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  <a:ea typeface="Arial"/>
              </a:rPr>
              <a:t>Instrumento de política exterior, refuerza los vínculos entre el Perú y los países con los que establece relación, promoviendo la integración y alianzas con otras regiones d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787E-8AB8-4260-9EC0-DE6F07542D30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logotipopq"/>
          <p:cNvPicPr/>
          <p:nvPr/>
        </p:nvPicPr>
        <p:blipFill>
          <a:blip r:embed="rId1"/>
          <a:stretch/>
        </p:blipFill>
        <p:spPr>
          <a:xfrm>
            <a:off x="233280" y="6086520"/>
            <a:ext cx="1067040" cy="496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7"/>
          <p:cNvSpPr/>
          <p:nvPr/>
        </p:nvSpPr>
        <p:spPr>
          <a:xfrm>
            <a:off x="893880" y="393840"/>
            <a:ext cx="7526160" cy="64260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Modalidades de la C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555480" y="1397160"/>
            <a:ext cx="840420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7604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Intercambio de expertos y docentes universi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7604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Pasantías o entrenamiento lab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7604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Capacitación a través de cursos de corta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7604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Intercambi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7604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Asesorías de cort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7604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Actividades de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7604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Desarroll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7604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Misiones de exploración y diagnós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604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189000"/>
            <a:ext cx="7345440" cy="398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operación Sur-S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5640" y="620280"/>
            <a:ext cx="0" cy="410364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276640"/>
            <a:ext cx="647640" cy="1440"/>
          </a:xfrm>
          <a:prstGeom prst="line">
            <a:avLst/>
          </a:prstGeom>
          <a:ln w="28440">
            <a:solidFill>
              <a:srgbClr val="00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3500280"/>
            <a:ext cx="647640" cy="1800"/>
          </a:xfrm>
          <a:prstGeom prst="line">
            <a:avLst/>
          </a:prstGeom>
          <a:ln w="28440">
            <a:solidFill>
              <a:srgbClr val="00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4724280"/>
            <a:ext cx="647640" cy="1800"/>
          </a:xfrm>
          <a:prstGeom prst="line">
            <a:avLst/>
          </a:prstGeom>
          <a:ln w="28440">
            <a:solidFill>
              <a:srgbClr val="00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1844640"/>
            <a:ext cx="5510160" cy="33116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9999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79640" y="1989000"/>
            <a:ext cx="4537080" cy="3988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operación Horizontal Sur-S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3068640"/>
            <a:ext cx="1582560" cy="3988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3068640"/>
            <a:ext cx="1584000" cy="3988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4437000"/>
            <a:ext cx="2448000" cy="10087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operació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ur-Sur  Trian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64000" y="2421000"/>
            <a:ext cx="1440" cy="431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6000" y="2852640"/>
            <a:ext cx="1944720" cy="18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2852640"/>
            <a:ext cx="1440" cy="2160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2852640"/>
            <a:ext cx="1440" cy="2160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2421000"/>
            <a:ext cx="0" cy="2016000"/>
          </a:xfrm>
          <a:prstGeom prst="line">
            <a:avLst/>
          </a:prstGeom>
          <a:ln w="284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1268280"/>
            <a:ext cx="5510160" cy="6426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Cooperación Técnica entre Países en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7360" y="22824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680" y="1066680"/>
            <a:ext cx="77724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os países en desarrollo intercambian recursos o experienci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 existe condicionalidad y la interlocución se realiza en igualdad de con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costos se asumen de manera compartida, aunque no necesariamente en participaciones equival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países se reparten los roles de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ofere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aquél que aporta los principales recursos financieros, técnicos y humanos) y de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cepto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750960" y="212760"/>
            <a:ext cx="7526160" cy="520560"/>
          </a:xfrm>
          <a:prstGeom prst="rect">
            <a:avLst/>
          </a:prstGeom>
          <a:solidFill>
            <a:srgbClr val="3e7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Cooperación Horizontal Sur-Sur Bi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23:02:18Z</dcterms:created>
  <dc:creator>César Eduardo Díaz Díaz</dc:creator>
  <dc:description/>
  <dc:language>en-US</dc:language>
  <cp:lastModifiedBy>sbernuy</cp:lastModifiedBy>
  <dcterms:modified xsi:type="dcterms:W3CDTF">2012-05-21T21:15:16Z</dcterms:modified>
  <cp:revision>1165</cp:revision>
  <dc:subject/>
  <dc:title>La CINR, conceptos, SNIP, diseño, procedimientos</dc:title>
</cp:coreProperties>
</file>