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5" y="0"/>
                </a:moveTo>
                <a:arcTo wR="5" hR="5" stAng="16200000" swAng="-5400000"/>
                <a:lnTo>
                  <a:pt x="0" y="28453"/>
                </a:lnTo>
                <a:arcTo wR="5" hR="5" stAng="10800000" swAng="-5400000"/>
                <a:lnTo>
                  <a:pt x="21595" y="2845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5" y="0"/>
                </a:moveTo>
                <a:arcTo wR="5" hR="5" stAng="16200000" swAng="-5400000"/>
                <a:lnTo>
                  <a:pt x="0" y="28453"/>
                </a:lnTo>
                <a:arcTo wR="5" hR="5" stAng="10800000" swAng="-5400000"/>
                <a:lnTo>
                  <a:pt x="21595" y="2845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5200" y="691920"/>
            <a:ext cx="4616280" cy="34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tIns="47520" bIns="475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920" y="4387680"/>
            <a:ext cx="5137200" cy="4152960"/>
          </a:xfrm>
          <a:prstGeom prst="rect">
            <a:avLst/>
          </a:prstGeom>
          <a:noFill/>
          <a:ln w="0">
            <a:noFill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7428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77428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6920"/>
                <a:tab algn="l" pos="1822320"/>
                <a:tab algn="l" pos="2278080"/>
                <a:tab algn="l" pos="2735280"/>
                <a:tab algn="l" pos="3191040"/>
                <a:tab algn="l" pos="3646440"/>
                <a:tab algn="l" pos="4103640"/>
                <a:tab algn="l" pos="4559400"/>
                <a:tab algn="l" pos="5014800"/>
                <a:tab algn="l" pos="5472000"/>
                <a:tab algn="l" pos="5927760"/>
                <a:tab algn="l" pos="6383160"/>
                <a:tab algn="l" pos="6840360"/>
                <a:tab algn="l" pos="7296120"/>
                <a:tab algn="l" pos="7751880"/>
                <a:tab algn="l" pos="8207280"/>
                <a:tab algn="l" pos="8664480"/>
                <a:tab algn="l" pos="9120240"/>
                <a:tab algn="l" pos="9567720"/>
                <a:tab algn="l" pos="10023480"/>
                <a:tab algn="l" pos="10479240"/>
                <a:tab algn="l" pos="10934640"/>
              </a:tabLst>
            </a:pPr>
            <a:fld id="{97FB98CD-2D6F-4BE7-B8DA-5BC4DD7547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68560" y="692280"/>
            <a:ext cx="4673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39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77B-8C3F-43EE-B3D1-A1A8677E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0BC-4AE6-4DAC-B573-7954D56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670-F3DD-4E84-BBD1-4880EBDC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1840"/>
            <a:ext cx="250128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FA3-168F-4525-AAAB-37D82639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942-7897-4865-B1D0-38CCE77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118-3DA4-4D3F-A3CE-5DCB3943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DE1-BE64-4EEA-8587-7F406CA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864-7B74-40DB-8677-669D6AE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FE5-951A-4284-BEBF-C333D4DA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BE3-90BA-4B50-81A0-1718167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184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136-9551-4135-87F2-B8BC8B6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1840"/>
            <a:ext cx="776916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924-A578-4BFA-B8FC-29DA9A4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D9C8-6CD7-413C-8111-BEF939B8F463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19700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uestionario para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Black"/>
              </a:rPr>
              <a:t>Informe de la Cooperación Sur-S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Black"/>
              </a:rPr>
              <a:t>en Iberoamérica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3300"/>
                </a:solidFill>
                <a:latin typeface="Arial Black"/>
              </a:rPr>
              <a:t>Sobre el</a:t>
            </a:r>
            <a:r>
              <a:rPr b="0" i="1" lang="en-GB" sz="3200" spc="-1" strike="noStrike">
                <a:solidFill>
                  <a:srgbClr val="993300"/>
                </a:solidFill>
                <a:latin typeface="Arial Black"/>
              </a:rPr>
              <a:t> Qué </a:t>
            </a:r>
            <a:r>
              <a:rPr b="0" lang="en-GB" sz="3200" spc="-1" strike="noStrike">
                <a:solidFill>
                  <a:srgbClr val="993300"/>
                </a:solidFill>
                <a:latin typeface="Arial Black"/>
              </a:rPr>
              <a:t>y el </a:t>
            </a:r>
            <a:r>
              <a:rPr b="0" i="1" lang="en-GB" sz="3200" spc="-1" strike="noStrike">
                <a:solidFill>
                  <a:srgbClr val="993300"/>
                </a:solidFill>
                <a:latin typeface="Arial Black"/>
              </a:rPr>
              <a:t>Cómo</a:t>
            </a:r>
            <a:r>
              <a:rPr b="0" lang="en-GB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3300"/>
                </a:solidFill>
                <a:latin typeface="Arial Black"/>
              </a:rPr>
              <a:t>reportar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5445000"/>
            <a:ext cx="223020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Imagen 3" descr="logo sur sur"/>
          <p:cNvPicPr/>
          <p:nvPr/>
        </p:nvPicPr>
        <p:blipFill>
          <a:blip r:embed="rId2"/>
          <a:stretch/>
        </p:blipFill>
        <p:spPr>
          <a:xfrm>
            <a:off x="6588000" y="5589720"/>
            <a:ext cx="223200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V="1">
            <a:off x="4356000" y="620280"/>
            <a:ext cx="0" cy="6048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765000"/>
            <a:ext cx="34574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. 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413000"/>
            <a:ext cx="345744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manda solicitante ante necesidades estratég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159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5. Conocer criterios para incluir experiencias y ca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3357720"/>
            <a:ext cx="856908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765000"/>
            <a:ext cx="3887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. Formulación y 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2276640"/>
            <a:ext cx="34574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idad Ofe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1413000"/>
            <a:ext cx="38876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rizontalidad 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1989000"/>
            <a:ext cx="38876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enso plane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32360" y="2565360"/>
            <a:ext cx="38876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aptabilidad 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645000"/>
            <a:ext cx="338436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.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4221000"/>
            <a:ext cx="338436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sabilidad compart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4797360"/>
            <a:ext cx="338436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5373720"/>
            <a:ext cx="338436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5950080"/>
            <a:ext cx="338436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3645000"/>
            <a:ext cx="3887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.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32360" y="4221000"/>
            <a:ext cx="38876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idad instalada y beneficio mut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4797360"/>
            <a:ext cx="38876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stenibilidad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5373720"/>
            <a:ext cx="38876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lic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83664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artes I a 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ablas y Base de datos a completar en el cuestio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71640" y="5084640"/>
            <a:ext cx="2230200" cy="107964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3" descr="logo sur sur"/>
          <p:cNvPicPr/>
          <p:nvPr/>
        </p:nvPicPr>
        <p:blipFill>
          <a:blip r:embed="rId2"/>
          <a:stretch/>
        </p:blipFill>
        <p:spPr>
          <a:xfrm>
            <a:off x="6084720" y="5084640"/>
            <a:ext cx="223236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8000" y="26028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oncreto: Uso d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base de acces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tablas complemen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1628640"/>
            <a:ext cx="2303280" cy="106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Horizontal Sur-Sur Bi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3716280"/>
            <a:ext cx="2303280" cy="106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Horizontal Sur-Sur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2852640"/>
            <a:ext cx="230508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ur-Sur 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5157720"/>
            <a:ext cx="230508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experi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2360" y="2997360"/>
            <a:ext cx="15843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ase d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981000"/>
            <a:ext cx="2160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2708280"/>
            <a:ext cx="1368360" cy="580680"/>
          </a:xfrm>
          <a:prstGeom prst="rect">
            <a:avLst/>
          </a:pr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Formul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1628640"/>
            <a:ext cx="216000" cy="3240360"/>
          </a:xfrm>
          <a:custGeom>
            <a:avLst/>
            <a:gdLst>
              <a:gd name="textAreaLeft" fmla="*/ 0 w 216000"/>
              <a:gd name="textAreaRight" fmla="*/ 78120 w 21600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5640" y="2421000"/>
            <a:ext cx="144360" cy="201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72360" y="3573360"/>
            <a:ext cx="1368360" cy="580680"/>
          </a:xfrm>
          <a:prstGeom prst="rect">
            <a:avLst/>
          </a:pr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Tab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56720" y="2852640"/>
            <a:ext cx="215640" cy="1152720"/>
          </a:xfrm>
          <a:custGeom>
            <a:avLst/>
            <a:gdLst>
              <a:gd name="textAreaLeft" fmla="*/ 28800 w 215640"/>
              <a:gd name="textAreaRight" fmla="*/ 186840 w 215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0562400">
            <a:off x="5867280" y="2852280"/>
            <a:ext cx="216000" cy="1152720"/>
          </a:xfrm>
          <a:custGeom>
            <a:avLst/>
            <a:gdLst>
              <a:gd name="textAreaLeft" fmla="*/ 28800 w 216000"/>
              <a:gd name="textAreaRight" fmla="*/ 187200 w 21600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515772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5373720"/>
            <a:ext cx="4608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ablas insertas en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1159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I.1. CHSSB. Proyectos y acciones (Base de datos d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" y="1835280"/>
            <a:ext cx="870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94320" y="299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03280" y="1844640"/>
          <a:ext cx="6286680" cy="2484360"/>
        </p:xfrm>
        <a:graphic>
          <a:graphicData uri="http://schemas.openxmlformats.org/drawingml/2006/table">
            <a:tbl>
              <a:tblPr/>
              <a:tblGrid>
                <a:gridCol w="1168560"/>
                <a:gridCol w="572760"/>
                <a:gridCol w="990720"/>
                <a:gridCol w="685800"/>
                <a:gridCol w="914400"/>
                <a:gridCol w="633600"/>
                <a:gridCol w="687240"/>
                <a:gridCol w="633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que declar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oferent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receptor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país Caribe receptor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ódigo y sector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aprob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inicio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finalizació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upuestado 2011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ejecutado 2011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observacione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upuestado total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ejecutado total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 observacione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403280" y="981000"/>
            <a:ext cx="633744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Form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4869000"/>
            <a:ext cx="633744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Ta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610920" y="1196640"/>
            <a:ext cx="431640" cy="4032360"/>
          </a:xfrm>
          <a:custGeom>
            <a:avLst/>
            <a:gdLst>
              <a:gd name="textAreaLeft" fmla="*/ 57600 w 431640"/>
              <a:gd name="textAreaRight" fmla="*/ 374040 w 431640"/>
              <a:gd name="textAreaTop" fmla="*/ 705600 h 4032360"/>
              <a:gd name="textAreaBottom" fmla="*/ 292356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1125360"/>
            <a:ext cx="431640" cy="4032360"/>
          </a:xfrm>
          <a:custGeom>
            <a:avLst/>
            <a:gdLst>
              <a:gd name="textAreaLeft" fmla="*/ 57600 w 431640"/>
              <a:gd name="textAreaRight" fmla="*/ 374040 w 431640"/>
              <a:gd name="textAreaTop" fmla="*/ 705600 h 4032360"/>
              <a:gd name="textAreaBottom" fmla="*/ 292356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1159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I.2. Ayuda Humanitaria y de Emer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7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452600" y="2158920"/>
          <a:ext cx="6240600" cy="2541600"/>
        </p:xfrm>
        <a:graphic>
          <a:graphicData uri="http://schemas.openxmlformats.org/drawingml/2006/table">
            <a:tbl>
              <a:tblPr/>
              <a:tblGrid>
                <a:gridCol w="820800"/>
                <a:gridCol w="633240"/>
                <a:gridCol w="752760"/>
                <a:gridCol w="633240"/>
                <a:gridCol w="679320"/>
                <a:gridCol w="662040"/>
                <a:gridCol w="719280"/>
                <a:gridCol w="1339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que declar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que presta la asistenci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que recibe la asistenci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país Caribe (especificar)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rgenci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mnificados a los que atiend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yuda Financier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yuda en especi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yuda Técnica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ístic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 observacione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403280" y="1413000"/>
            <a:ext cx="633744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Form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6360" y="5013360"/>
            <a:ext cx="619128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Ta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610920" y="1267920"/>
            <a:ext cx="431640" cy="4032360"/>
          </a:xfrm>
          <a:custGeom>
            <a:avLst/>
            <a:gdLst>
              <a:gd name="textAreaLeft" fmla="*/ 57600 w 431640"/>
              <a:gd name="textAreaRight" fmla="*/ 374040 w 431640"/>
              <a:gd name="textAreaTop" fmla="*/ 705600 h 4032360"/>
              <a:gd name="textAreaBottom" fmla="*/ 292356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01080" y="1413000"/>
            <a:ext cx="431640" cy="4032000"/>
          </a:xfrm>
          <a:custGeom>
            <a:avLst/>
            <a:gdLst>
              <a:gd name="textAreaLeft" fmla="*/ 57600 w 431640"/>
              <a:gd name="textAreaRight" fmla="*/ 374040 w 431640"/>
              <a:gd name="textAreaTop" fmla="*/ 705600 h 4032000"/>
              <a:gd name="textAreaBottom" fmla="*/ 292320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0920" y="1159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II. Cooperación Sur-Sur Tri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7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765000"/>
            <a:ext cx="741672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Form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6021360"/>
            <a:ext cx="734544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Ta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0800000">
            <a:off x="323640" y="620640"/>
            <a:ext cx="360360" cy="5688000"/>
          </a:xfrm>
          <a:custGeom>
            <a:avLst/>
            <a:gdLst>
              <a:gd name="textAreaLeft" fmla="*/ 48240 w 360360"/>
              <a:gd name="textAreaRight" fmla="*/ 312120 w 360360"/>
              <a:gd name="textAreaTop" fmla="*/ 995400 h 5688000"/>
              <a:gd name="textAreaBottom" fmla="*/ 412380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04360" y="549360"/>
            <a:ext cx="287280" cy="6048360"/>
          </a:xfrm>
          <a:custGeom>
            <a:avLst/>
            <a:gdLst>
              <a:gd name="textAreaLeft" fmla="*/ 38520 w 287280"/>
              <a:gd name="textAreaRight" fmla="*/ 248760 w 287280"/>
              <a:gd name="textAreaTop" fmla="*/ 1058400 h 6048360"/>
              <a:gd name="textAreaBottom" fmla="*/ 438516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29320" y="2965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42920" y="1484280"/>
          <a:ext cx="7343640" cy="4205160"/>
        </p:xfrm>
        <a:graphic>
          <a:graphicData uri="http://schemas.openxmlformats.org/drawingml/2006/table">
            <a:tbl>
              <a:tblPr/>
              <a:tblGrid>
                <a:gridCol w="784080"/>
                <a:gridCol w="586080"/>
                <a:gridCol w="685800"/>
                <a:gridCol w="628560"/>
                <a:gridCol w="182520"/>
                <a:gridCol w="636480"/>
                <a:gridCol w="1200240"/>
                <a:gridCol w="182520"/>
                <a:gridCol w="1443240"/>
                <a:gridCol w="1014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que declar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er oferent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ndo oferent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2º oferente (especificar)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receptor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receptor Caribe (especificar)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ón o Proyecto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bre o título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ódigo y sector de actividad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inicio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cha finalizació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ción, negociación, formulació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anismo financi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Presupuestado total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ejecutado total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ervacio-nes cost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presupuestado 2011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e ejecutado 2011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 observacione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0920" y="1159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III. Cooperación Horizontal Sur-Sur 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57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1197000"/>
            <a:ext cx="705816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Form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4653000"/>
            <a:ext cx="7129440" cy="398880"/>
          </a:xfrm>
          <a:prstGeom prst="rect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Arial Unicode MS"/>
              </a:rPr>
              <a:t>Ta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324000" y="1125360"/>
            <a:ext cx="287280" cy="3959280"/>
          </a:xfrm>
          <a:custGeom>
            <a:avLst/>
            <a:gdLst>
              <a:gd name="textAreaLeft" fmla="*/ 38520 w 287280"/>
              <a:gd name="textAreaRight" fmla="*/ 248760 w 287280"/>
              <a:gd name="textAreaTop" fmla="*/ 692640 h 3959280"/>
              <a:gd name="textAreaBottom" fmla="*/ 287064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9640" y="1268280"/>
            <a:ext cx="287640" cy="3961080"/>
          </a:xfrm>
          <a:custGeom>
            <a:avLst/>
            <a:gdLst>
              <a:gd name="textAreaLeft" fmla="*/ 38520 w 287640"/>
              <a:gd name="textAreaRight" fmla="*/ 249120 w 287640"/>
              <a:gd name="textAreaTop" fmla="*/ 693000 h 3961080"/>
              <a:gd name="textAreaBottom" fmla="*/ 28717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29320" y="2965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42920" y="1844640"/>
          <a:ext cx="7058160" cy="2603520"/>
        </p:xfrm>
        <a:graphic>
          <a:graphicData uri="http://schemas.openxmlformats.org/drawingml/2006/table">
            <a:tbl>
              <a:tblPr/>
              <a:tblGrid>
                <a:gridCol w="1040040"/>
                <a:gridCol w="844560"/>
                <a:gridCol w="909360"/>
                <a:gridCol w="844560"/>
                <a:gridCol w="865440"/>
                <a:gridCol w="844560"/>
                <a:gridCol w="865080"/>
                <a:gridCol w="844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 que declar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bre o título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a, Proyecto ó Acció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íses participantes y roles de cada uno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co institu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 y breve descripció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i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nació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i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se negoció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i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se formuló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i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se financió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ervac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03280" y="981000"/>
            <a:ext cx="1800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V.1. C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1628640"/>
            <a:ext cx="187344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S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SS 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2924280"/>
            <a:ext cx="1944720" cy="2527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rmulación y 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3280" y="2349360"/>
            <a:ext cx="18734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atos 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03280" y="5661000"/>
            <a:ext cx="547380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pecial relevancia casos tema XXI Cumbre Iberoameric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-435600" y="3899520"/>
            <a:ext cx="25938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forme a preguntas g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981000"/>
            <a:ext cx="24494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V.2. Experi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33336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IV. Casos y 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7640" y="1484280"/>
            <a:ext cx="2377800" cy="8240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S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SS 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SS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492280"/>
            <a:ext cx="237780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atos 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7640" y="2997360"/>
            <a:ext cx="2449440" cy="2527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6115680" y="3972960"/>
            <a:ext cx="25938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Justificación y descripción l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11280" y="2276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71640" y="5084640"/>
            <a:ext cx="2230200" cy="107964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3" descr="logo sur sur"/>
          <p:cNvPicPr/>
          <p:nvPr/>
        </p:nvPicPr>
        <p:blipFill>
          <a:blip r:embed="rId2"/>
          <a:stretch/>
        </p:blipFill>
        <p:spPr>
          <a:xfrm>
            <a:off x="6084720" y="5084640"/>
            <a:ext cx="223236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4140360" y="765000"/>
            <a:ext cx="0" cy="43200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197000"/>
            <a:ext cx="83534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vance DEFINICIÓN de un marco conceptual/metodológico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989000"/>
            <a:ext cx="727236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5680" y="333360"/>
            <a:ext cx="66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o largo de las cinco ediciones del I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2349360"/>
            <a:ext cx="2016360" cy="3373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FINICIÓN C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55640" y="1988640"/>
            <a:ext cx="0" cy="36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2349360"/>
            <a:ext cx="2017800" cy="5806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ODAL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E C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140360" y="1915920"/>
            <a:ext cx="0" cy="43308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2349360"/>
            <a:ext cx="2232000" cy="8240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INDICADORES (CUANTITATIVO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ALITATIV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40360" y="1557000"/>
            <a:ext cx="0" cy="43164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852640"/>
            <a:ext cx="201636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3141720"/>
            <a:ext cx="201600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Téc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357720"/>
            <a:ext cx="201636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860640"/>
            <a:ext cx="2016000" cy="8240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SS Bi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SS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SS 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27640" y="3284640"/>
            <a:ext cx="2303640" cy="1372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cio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e econó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tores de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360" y="5229360"/>
            <a:ext cx="69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erramienta utilizada para captar esta 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877000"/>
            <a:ext cx="6769080" cy="36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028000" y="1988640"/>
            <a:ext cx="0" cy="36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348800">
            <a:off x="8388000" y="4581360"/>
            <a:ext cx="431640" cy="1440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134200">
            <a:off x="323640" y="4653000"/>
            <a:ext cx="433080" cy="1503360"/>
          </a:xfrm>
          <a:custGeom>
            <a:avLst/>
            <a:gdLst>
              <a:gd name="textAreaLeft" fmla="*/ 57960 w 433080"/>
              <a:gd name="textAreaRight" fmla="*/ 375120 w 433080"/>
              <a:gd name="textAreaTop" fmla="*/ 262800 h 1503360"/>
              <a:gd name="textAreaBottom" fmla="*/ 1090080 h 15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32000" y="1052640"/>
            <a:ext cx="18003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formación cuanti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26028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oncreto: ¿Qué tipo de información capta el cuestiona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916280"/>
            <a:ext cx="2303280" cy="106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Horizontal Sur-Sur Bilat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005360"/>
            <a:ext cx="2303280" cy="106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Horizontal Sur-Sur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3213000"/>
            <a:ext cx="230508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oper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ur-Sur 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698160" y="3174120"/>
            <a:ext cx="324000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experi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1844640"/>
            <a:ext cx="1800360" cy="3257640"/>
          </a:xfrm>
          <a:prstGeom prst="rect">
            <a:avLst/>
          </a:pr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Progr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Proyec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Coste (ejecutado y presupuest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F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291680" y="3315960"/>
            <a:ext cx="3168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Qué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 está hacien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5229360"/>
            <a:ext cx="5472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óm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se está hacien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1052640"/>
            <a:ext cx="21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formación cuali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844640"/>
            <a:ext cx="2232000" cy="3257640"/>
          </a:xfrm>
          <a:prstGeom prst="rect">
            <a:avLst/>
          </a:pr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Sectores de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Oper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(Orige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Financiació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Negociació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Formulació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Marco instituc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229360"/>
            <a:ext cx="2305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5373720"/>
            <a:ext cx="215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373720"/>
            <a:ext cx="2872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084640"/>
            <a:ext cx="0" cy="289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1844640"/>
            <a:ext cx="216000" cy="21607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6165720"/>
            <a:ext cx="6840720" cy="287640"/>
          </a:xfrm>
          <a:custGeom>
            <a:avLst/>
            <a:gdLst>
              <a:gd name="textAreaLeft" fmla="*/ 1068840 w 6840720"/>
              <a:gd name="textAreaRight" fmla="*/ 5985720 w 684072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rot="5400000">
            <a:off x="574920" y="4185000"/>
            <a:ext cx="1511280" cy="28764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476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ún formato cuest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49360"/>
            <a:ext cx="4535640" cy="287280"/>
          </a:xfrm>
          <a:custGeom>
            <a:avLst/>
            <a:gdLst>
              <a:gd name="textAreaLeft" fmla="*/ 708480 w 4535640"/>
              <a:gd name="textAreaRight" fmla="*/ 3969000 w 4535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773360"/>
          <a:ext cx="5040360" cy="406224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E DE 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Cooperación Horizontal Sur-Sur Bilateral………………...2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I.1. Proyectos y Ac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I.2. Ayuda Humanitaria y de Emerg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 Cooperación Sur-Sur Triangular…………………….........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Cooperación Horizontal Sur-Sur Regional………………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Casos y Experiencias……..…………………………………7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Guía metodológica…………………………………………..9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 de Access…….…………………………..……..…... Adju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276720" y="2492280"/>
            <a:ext cx="215640" cy="1873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141720"/>
            <a:ext cx="215892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157720"/>
            <a:ext cx="2158920" cy="8240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se de Ac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 inclusión de las Respue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400536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600" spc="-1" strike="noStrike">
                <a:solidFill>
                  <a:srgbClr val="993300"/>
                </a:solidFill>
                <a:latin typeface="Arial"/>
              </a:rPr>
              <a:t>Guía metod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421000"/>
            <a:ext cx="5111640" cy="201600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5157720"/>
            <a:ext cx="5111640" cy="43200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5084640"/>
            <a:ext cx="215640" cy="57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ffff"/>
          </a:solidFill>
          <a:ln w="284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4724280"/>
            <a:ext cx="2374920" cy="0"/>
          </a:xfrm>
          <a:prstGeom prst="line">
            <a:avLst/>
          </a:prstGeom>
          <a:ln w="1908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5573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arte 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Orientaciones metodológ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5084640"/>
            <a:ext cx="223020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3" descr="logo sur sur"/>
          <p:cNvPicPr/>
          <p:nvPr/>
        </p:nvPicPr>
        <p:blipFill>
          <a:blip r:embed="rId2"/>
          <a:stretch/>
        </p:blipFill>
        <p:spPr>
          <a:xfrm>
            <a:off x="6084720" y="5084640"/>
            <a:ext cx="223236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2602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1. Identificar correctamente las distintas Modalidades de Cooperación Sur-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916280"/>
            <a:ext cx="5510160" cy="248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060640"/>
            <a:ext cx="2536560" cy="317520"/>
          </a:xfrm>
          <a:prstGeom prst="rect">
            <a:avLst/>
          </a:prstGeom>
          <a:solidFill>
            <a:srgbClr val="ffffff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30600" bIns="306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operación Horizontal Sur-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068640"/>
            <a:ext cx="1008000" cy="228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068640"/>
            <a:ext cx="1224000" cy="576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y número de agentes/ Otros rasg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060640"/>
            <a:ext cx="1224000" cy="863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io de asociación en condiciones de igualdad y sin condicion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3573360"/>
            <a:ext cx="1368720" cy="647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oper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r-S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ia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716280"/>
            <a:ext cx="1657080" cy="50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fluencia de varias modalidades en base a la horizont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421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068640"/>
            <a:ext cx="973080" cy="228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989000"/>
            <a:ext cx="830520" cy="576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ivel de desarrollo rela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2637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234936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22050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2637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2637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558080"/>
            <a:ext cx="5616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ización principales Modalidades de Cooperación Sur-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2852640"/>
            <a:ext cx="1513080" cy="2466720"/>
          </a:xfrm>
          <a:prstGeom prst="rect">
            <a:avLst/>
          </a:pr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Arial"/>
              </a:rPr>
              <a:t>CHSS Region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993300"/>
                </a:solidFill>
                <a:latin typeface="Arial"/>
              </a:rPr>
              <a:t>3 o + paí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Arial"/>
              </a:rPr>
              <a:t>Acordada y diseñada conjunt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Arial"/>
              </a:rPr>
              <a:t>Enfoque 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Arial"/>
              </a:rPr>
              <a:t>Bajo marco de institucion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3213000"/>
            <a:ext cx="1728720" cy="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2. Distinguir Proyectos y Acciones de cooperación (CHSSB y CS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1989000"/>
            <a:ext cx="5604120" cy="3745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320" rIns="94320" tIns="48600" bIns="486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4076640"/>
            <a:ext cx="1378080" cy="363600"/>
          </a:xfrm>
          <a:prstGeom prst="rect">
            <a:avLst/>
          </a:prstGeom>
          <a:solidFill>
            <a:srgbClr val="333399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35640" bIns="3564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0133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653000"/>
            <a:ext cx="240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797360"/>
            <a:ext cx="914400" cy="228600"/>
          </a:xfrm>
          <a:prstGeom prst="rect">
            <a:avLst/>
          </a:prstGeom>
          <a:solidFill>
            <a:srgbClr val="6666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Acción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797360"/>
            <a:ext cx="914400" cy="228600"/>
          </a:xfrm>
          <a:prstGeom prst="rect">
            <a:avLst/>
          </a:prstGeom>
          <a:solidFill>
            <a:srgbClr val="6666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Acción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4797360"/>
            <a:ext cx="914400" cy="228600"/>
          </a:xfrm>
          <a:prstGeom prst="rect">
            <a:avLst/>
          </a:prstGeom>
          <a:solidFill>
            <a:srgbClr val="6666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Acción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6530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46530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46530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515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50133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0133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515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515772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5300640"/>
            <a:ext cx="57168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5300640"/>
            <a:ext cx="57132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20000" y="5300640"/>
            <a:ext cx="57132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300640"/>
            <a:ext cx="57132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5300640"/>
            <a:ext cx="57168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5300640"/>
            <a:ext cx="57132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437000"/>
            <a:ext cx="920520" cy="425520"/>
          </a:xfrm>
          <a:prstGeom prst="rect">
            <a:avLst/>
          </a:prstGeom>
          <a:solidFill>
            <a:srgbClr val="666699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35640" bIns="3564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Acción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(“puntual”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5300640"/>
            <a:ext cx="57168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5300640"/>
            <a:ext cx="571320" cy="343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5157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133720"/>
            <a:ext cx="2973240" cy="160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OYECTO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A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A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acciones interrelacionadas encaminadas a satisfacer un objetivo común hacia un destinatario específico, a través de su ejecución en el marco de uno o varios sectores y/o temas. Posee los siguientes elementos: periodo de ejecución definido, presupuesto, resultados esperados, programa en que se inserta; e igualmente, debe prever un mecanismo de seguimiento y evaluación. Se habrá aprobado en un marco de cooperación (comisión mixta, acuerdo interinstitucional, acuerdos generales de cooperación, o similares)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2781360"/>
            <a:ext cx="1944720" cy="122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IÓN:</a:t>
            </a:r>
            <a:r>
              <a:rPr b="0" lang="es-A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A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 una expresión concreta y acotada de la cooperación internacional. Se ejecuta puntualmente, por una sola vez, a través de modalidades específicas (asesoría, pasantía, investigación conjunta, misión de diagnóstico, seminarios, etc.)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627280" y="4005360"/>
            <a:ext cx="0" cy="44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156360" y="3715920"/>
            <a:ext cx="0" cy="34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0" y="15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1627920"/>
            <a:ext cx="5616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s tipo de Proyectos, Acciones y Actividades de Coope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26028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3. Conocer las distintas definiciones de fechas y coste (Taller Montevid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907920"/>
            <a:ext cx="38894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653000"/>
            <a:ext cx="3891240" cy="337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e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484280"/>
            <a:ext cx="6840360" cy="649440"/>
          </a:xfrm>
          <a:prstGeom prst="rect">
            <a:avLst/>
          </a:prstGeom>
          <a:solidFill>
            <a:srgbClr val="dddddd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 u="sng">
                <a:solidFill>
                  <a:srgbClr val="993300"/>
                </a:solidFill>
                <a:uFillTx/>
                <a:latin typeface="Arial"/>
                <a:ea typeface="MS Mincho"/>
              </a:rPr>
              <a:t>Un proyecto se considera aprobado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 cuando existe un documento de proyecto y además éste ha sido formalizado, al margen de la instancia concre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>
                <a:solidFill>
                  <a:srgbClr val="993300"/>
                </a:solidFill>
                <a:latin typeface="Arial"/>
                <a:ea typeface="MS Mincho"/>
              </a:rPr>
              <a:t>Fecha considerada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: la segunda, pues coincide con el cumplimiento de ambos requisi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2421000"/>
            <a:ext cx="6840360" cy="576360"/>
          </a:xfrm>
          <a:prstGeom prst="rect">
            <a:avLst/>
          </a:prstGeom>
          <a:solidFill>
            <a:srgbClr val="dddddd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 u="sng">
                <a:solidFill>
                  <a:srgbClr val="993300"/>
                </a:solidFill>
                <a:uFillTx/>
                <a:latin typeface="Arial"/>
                <a:ea typeface="MS Mincho"/>
              </a:rPr>
              <a:t>Un proyecto se considera iniciado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 cuando se inicia la primera actividad. La fecha es la del inicio de la primera actividad, con independencia de que hubiera actividades de gestión prev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357720"/>
            <a:ext cx="6840360" cy="855360"/>
          </a:xfrm>
          <a:prstGeom prst="rect">
            <a:avLst/>
          </a:prstGeom>
          <a:solidFill>
            <a:srgbClr val="dddddd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 u="sng">
                <a:solidFill>
                  <a:srgbClr val="993300"/>
                </a:solidFill>
                <a:uFillTx/>
                <a:latin typeface="Arial"/>
                <a:ea typeface="MS Mincho"/>
              </a:rPr>
              <a:t>Un proyecto se considera finalizado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 cuando se da por cumplida la última actividad, sin que ello incluya a la realización del Informe final, una condición que no es requisito en todos los proyect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La </a:t>
            </a:r>
            <a:r>
              <a:rPr b="1" i="1" lang="es-ES" sz="1200" spc="-1" strike="noStrike">
                <a:solidFill>
                  <a:srgbClr val="993300"/>
                </a:solidFill>
                <a:latin typeface="Arial"/>
                <a:ea typeface="MS Mincho"/>
              </a:rPr>
              <a:t>fecha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es la del final de la última activida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768240" y="2503440"/>
            <a:ext cx="2376360" cy="3373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/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557360"/>
            <a:ext cx="1152360" cy="3373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b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2565360"/>
            <a:ext cx="1152360" cy="3373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ici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500280"/>
            <a:ext cx="1152360" cy="3373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al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5516640"/>
            <a:ext cx="1656000" cy="3373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upu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6165720"/>
            <a:ext cx="1656000" cy="3373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cu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5084640"/>
            <a:ext cx="8569440" cy="289080"/>
          </a:xfrm>
          <a:prstGeom prst="rect">
            <a:avLst/>
          </a:prstGeom>
          <a:solidFill>
            <a:srgbClr val="dddddd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Suma total de los gastos asociados al ciclo del proyecto que implique desembolso de recursos financie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5445000"/>
            <a:ext cx="4464000" cy="432000"/>
          </a:xfrm>
          <a:prstGeom prst="rect">
            <a:avLst/>
          </a:prstGeom>
          <a:solidFill>
            <a:srgbClr val="dddddd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Suma de gastos previstos en el documento de formulación del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6165720"/>
            <a:ext cx="4464000" cy="432000"/>
          </a:xfrm>
          <a:prstGeom prst="rect">
            <a:avLst/>
          </a:prstGeom>
          <a:solidFill>
            <a:srgbClr val="dddddd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MS Mincho"/>
              </a:rPr>
              <a:t>Suma de gastos efectivamente realizados en la ejecución del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89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765000"/>
            <a:ext cx="8424720" cy="398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abla clasificación s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341360"/>
            <a:ext cx="1584360" cy="580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Grupo 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341360"/>
            <a:ext cx="136836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mensión Co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1341360"/>
            <a:ext cx="4968720" cy="580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tor de actividad y 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060640"/>
            <a:ext cx="1368360" cy="337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141720"/>
            <a:ext cx="1368360" cy="337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5229360"/>
            <a:ext cx="1368360" cy="337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O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060640"/>
            <a:ext cx="1584360" cy="9464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raestructura y Servicios So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3141720"/>
            <a:ext cx="1584360" cy="9464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raestructura y Servicios Econó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4221000"/>
            <a:ext cx="1584360" cy="733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ctores Produ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5229360"/>
            <a:ext cx="1584360" cy="307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ltisec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0000" y="2060640"/>
            <a:ext cx="4968720" cy="1006560"/>
          </a:xfrm>
          <a:prstGeom prst="rect">
            <a:avLst/>
          </a:prstGeom>
          <a:solidFill>
            <a:srgbClr val="00999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ducación (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alud (1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oblación y salud reproductiva (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bastecimiento y saneamiento de Agua (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tros (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3213000"/>
            <a:ext cx="4968720" cy="1006560"/>
          </a:xfrm>
          <a:prstGeom prst="rect">
            <a:avLst/>
          </a:prstGeom>
          <a:solidFill>
            <a:srgbClr val="00999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nergía (21)                                 Transporte y almacenamiento (2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municaciones (23)                                 Ciencia y tecnología (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Banca y Finanzas (25)                                                      Empleo (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mpresas (27)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4221000"/>
            <a:ext cx="4968720" cy="1006560"/>
          </a:xfrm>
          <a:prstGeom prst="rect">
            <a:avLst/>
          </a:prstGeom>
          <a:solidFill>
            <a:srgbClr val="00999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xtractivas (2A)                                                         Agricultura (2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ilvicultura (2C)                                                                  Pesca (2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strucción (2E)                                                          Industria (2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Turismo (2G)                                                                Comercio (2H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5229360"/>
            <a:ext cx="4968720" cy="1371600"/>
          </a:xfrm>
          <a:prstGeom prst="rect">
            <a:avLst/>
          </a:prstGeom>
          <a:solidFill>
            <a:srgbClr val="00999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obierno (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ociedad Civil (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 (3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edio Ambiente (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énero (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revención de desastres (3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tros (3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6028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4. Conocer la clasificación s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tt</dc:creator>
  <dc:description/>
  <dc:language>en-US</dc:language>
  <cp:lastModifiedBy>sbernuy</cp:lastModifiedBy>
  <dcterms:modified xsi:type="dcterms:W3CDTF">2012-05-21T16:21:06Z</dcterms:modified>
  <cp:revision>49</cp:revision>
  <dc:subject/>
  <dc:title>Presentación de PowerPoint</dc:title>
</cp:coreProperties>
</file>